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C1C8-895F-428F-90C2-B5FB5D59C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D38B-FCC1-47D7-9F21-BBAFD771C2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7C983-2A4B-44CC-B4AB-C0F25F7A78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48A85-CB98-4287-86D0-554B0C3D7E5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DF1A2-C46F-4861-A100-14DD881FB9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B8180-01A6-4800-A415-E881C9FFC8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1A047-61DC-4DE2-8130-FF559BC72A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B3596-271C-47B6-88AC-A8B609BFEA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6740F-B637-4E21-B27E-9D006613E0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D36C9-60F2-4471-9D5D-C53EFDD527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123A5-7683-47AE-96DC-D070F34AFB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2F039-7E35-4913-9F2D-605F975D8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EE1C-0A9E-4E27-849B-E8C698B4D8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BBAF59-D533-4B9A-92B7-00F24F7A06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0058CB-2358-431B-9F2A-07CCAC71824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AC4325-B3CD-4374-A39C-79E7EE556A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2EE12-65CB-4CFD-9875-224A4332FA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FD232-95E2-49C8-995C-9058F12112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5D14E-FBF8-4A1B-8B52-E4DCA8FAE8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D72FF0-64A9-4474-9068-91CC701F8C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B2BCF-7BD3-4019-823C-CAAB5B8E2B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D5E365-1560-45FB-8F9D-5F78A21D50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CC672F-41D5-457F-B695-7862D62EB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3E0D-E71B-4CF6-B0BF-3BDF70255F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E1241B-793B-4827-8D89-8043FF190C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DEBEC-1AC9-491A-A6A4-8242A36909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F379-8839-467D-985A-201CC92EAF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18CB-A3FF-4975-A8BC-DFFE142519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06C7E-94CD-4904-A064-98C47D9465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50F2-90A4-41CC-BCCE-3013F34280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EC437-7F4C-465F-AD27-85485CAFA43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AE2F8-0B02-4C30-8DC0-FAF8626612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E5F36-B6A7-4D4F-B563-02275F36DC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ACA9-8C62-4EBE-8463-B01682814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4A2-8FBB-481C-82EC-8C2725ADBF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E57B-DBBD-4839-A7D2-D70073815E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6905-5F0D-46D3-ACDD-1200867FF2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446F-CD41-47F5-AB58-24A15F520F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21D93-CE13-4891-B25B-37A2DA055B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39290-51E3-4542-95D1-EED0EAC04A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21303-7007-480D-81F2-D9B55D91D8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03718-5608-4A27-A38E-2969B800AD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539B5-5C7D-485C-9573-5D6F11A7C5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C372C-932F-4439-B6E3-C973B64B84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28B0A-1569-455D-917F-093D97907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54F-D892-49C2-9A17-CE68E199C32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D33356-47B3-4DF7-93D5-C2FC4D47120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ACC5E-5D84-4D5B-A100-AC29668D34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AA447-C37D-4D0D-8279-85874C405D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5E806-BF92-4D3D-B060-769FF15AE8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029EF-321F-4C52-AC00-3A4013643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D55-302A-42A9-ADE9-238FD8F586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F52-A9B8-47D3-A704-ADD348B46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8BE-8048-43B9-A434-1A45450DD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00E-29F6-4D1F-997D-1A7A39ED87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228-143F-428A-8C13-CB1FDA5E7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6067-59B0-4291-B28E-A18962006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C63-1F96-4F08-A7FB-AFA8FC961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782-54EF-442E-BD6D-0D7163AB43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CBD-6D4F-4369-AA61-DDF38F7C0B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6C2-9E37-41FA-BD24-7D15962B2D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695-8CD5-411F-AD12-23E218C2F8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9993-6C6B-411A-9246-55CE4C977F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3F7B3-AB92-4212-A4E8-95FFF72E13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27DD5-2D1A-46AF-A8FB-03D9B5AEDA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BD066-C39D-4588-85C5-05ABBB46BE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F189B-D6BF-4F1F-95B5-4867A1434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F045-E7DD-40F7-A449-2F2466395C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FBC4-802B-424C-AE25-70EA909A37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2556-16B0-44D0-9B48-4D05FBB002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6922E-4DD2-4216-814D-92CCCB5560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FE063-566C-4AB0-8289-C30CF008BA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AA7E-A5EA-48CF-98A3-E97123BB21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DFB8-CAE2-4A98-9402-B129ADB5BB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86ECD-87E4-43DB-92BF-E8B9FE4383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D04E9-FF95-4321-BEAA-D05744AAD7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73223-769C-4257-ABE0-31F9F06F1E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514AC-A457-40AB-83B0-80CE63C93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1775-55BC-45E0-B5DA-A8BEDB5324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28A67-0A7B-4A86-9864-F71E9899AD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797E5-BAD1-4F80-BA86-5637987762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7C834-AADF-47ED-9CB1-5AE2D11957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AAB9C-73DE-4222-A03F-5DF3942F21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C99C4-3BCF-4BC7-82A5-42D0853AE5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834EF-AB91-41B7-BBCB-31EA8DC4F8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0C04C-1B2A-4D2A-BFD4-93011F7131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97A67-91DC-4154-914C-EF9782C31A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AF5BF-C80D-4634-899E-9E6649413D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B4D7-FAA0-437F-9FB1-E63EEABB4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DCBC-F2DB-424D-B5DD-C81389C6AE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FD3D-1593-46FC-A706-D489129E8D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1677-17E9-4CB9-BD50-47D068956C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64C0-1A0C-4976-B7A7-4DB15C17DE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884D-596D-492C-891B-A5E0F6AA14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80EF-3371-4952-B1AF-4856617FCF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A96A-02A4-419A-9F21-DC96BE8B8F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1092-1A4E-4C3B-BFA9-6BFD8D987C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EE49-9C06-4785-B3BB-50D76845EC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0912-37B6-491E-8104-360EFBE8D5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A1A9-C8F2-4730-84DA-ECF030830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EF88-2476-4773-80EF-3CAA6FE706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9B40-721D-4AC0-85AD-22508F60FD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D5B6D-4BDE-483D-AA81-71F3E8B80C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21BD8-768A-4C62-A436-087C59B09E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1169E-7CA2-425C-A40E-1651A550E5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E0B0A-D086-430F-A6E7-D349DB84D8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914E8-DBDB-4DFE-8B89-E0D33E2BB2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36C4C-23AC-4B94-8330-7DF73C5A07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23C36-5946-4C8C-81BE-F4BB3C7BC7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0B8C7-DC73-42B0-8BB6-BEC5EFA0AB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9C90B-8C67-4D0F-AC78-9A8144D6A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03EA-E07A-43C1-88AC-25DBF276A2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26709-02F8-435D-921F-6C187CCDC9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644F7-1167-4B5C-80B4-2BF058E80C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93212-665F-4F1B-86EB-7250186047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419EF-57E6-4F89-861E-5A2F9783A9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24D83F-67BD-4E4D-A747-FF5C673B7E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143ACE-5D0C-4A7D-BB21-C6E5E60E6B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35C67-BFD3-4026-86DD-4AE1EEA91A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69AFB-9D2B-4A17-8189-F41A146BB4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7CFFD-5652-480B-B64D-4467BE4360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E613F-D4D2-44DE-AA1C-431594F32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32FC-AE7A-4809-A0B8-92E38FF5DD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F3FBE-9133-4C40-92B3-3A38647CB0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2F66B-3179-4144-AB21-1A81B7B407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04A2D4-5000-4AD7-AFFA-4EF6F8E49D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235CB-625D-43FB-B2DD-004E7B54E4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D5FB1-F6AA-413A-825C-9CE79A3C27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5383-3FF0-46C3-A4CC-25B46A1493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1D49-408A-4AA3-851E-DA488A6ACD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A5FB-FF43-4DF6-8BD4-439A6FE653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75A5-C8CD-40FB-B65A-967DA4D6AD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4763-8E3F-4C22-954A-8EDF807FF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56A7-3863-47C8-A61C-FB72C10F6C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6A36-FDFE-4EA0-9418-575E3C36AA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7EAE-2CC4-46A0-AE15-D87400A7B0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95BE-3741-4C5F-A525-95BA72A1DA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8493-A1DD-40A2-A521-F4BF2241F7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42C4-0CA4-4C4E-9C0B-92866963ED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0330-32FE-4204-8620-ED66748ACA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BF6D-4853-48CA-A66A-CB44521266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8EF74-2ACA-4CA7-9A93-217F074DDE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57EBD-6686-4486-9EDB-305724F26D1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A95CA-1144-4786-BCD8-9B7336B2B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21B-1C82-4A19-AF7B-E7F76B8A57D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156-F356-452B-957E-E9BAE654832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DC6-01C0-40C1-BA8A-B93509F1C1E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61FC-64C5-45F3-BA51-18B72F7633B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0559-B319-49FF-832F-8D79E16804C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158-19FC-484D-B51E-F6286EA108C4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3FB-2695-452E-B28F-F3FC111FD69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828B-12F2-474D-9870-3503DB48261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D22-8A6F-4259-A1E3-52056CF1446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7C3-8622-4191-9B56-22009A4067F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E9A-ACFC-48EE-B9F5-15677FF21C8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90-723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8" descr="logo"/>
          <p:cNvPicPr/>
          <p:nvPr/>
        </p:nvPicPr>
        <p:blipFill>
          <a:blip r:embed="rId2"/>
          <a:stretch/>
        </p:blipFill>
        <p:spPr>
          <a:xfrm>
            <a:off x="685800" y="6114960"/>
            <a:ext cx="134316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B86-1BC8-4B96-BB0C-92AFAB2BF4B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..%5C..%5C..%5C..%5CTEMP%5CContent.IE5%5CC1M3456V%5CMain_Java11.ppt" TargetMode="External"/><Relationship Id="rId2" Type="http://schemas.openxmlformats.org/officeDocument/2006/relationships/hyperlink" Target="file:///..%5C..%5C..%5C..%5CTEMP%5CContent.IE5%5CC1M3456V%5CMain_Java11.ppt" TargetMode="External"/><Relationship Id="rId3" Type="http://schemas.openxmlformats.org/officeDocument/2006/relationships/hyperlink" Target="file:///..%5C..%5C..%5C..%5CTEMP%5CContent.IE5%5CC1M3456V%5CMain_Java11.ppt" TargetMode="Externa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7A6-5BC7-4D59-8111-7C670B44A8F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9: Searc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B27-22A5-495B-B117-6077985CA8D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2971800" y="2209680"/>
            <a:ext cx="3123720" cy="2819520"/>
            <a:chOff x="2971800" y="2209680"/>
            <a:chExt cx="3123720" cy="2819520"/>
          </a:xfrm>
        </p:grpSpPr>
        <p:grpSp>
          <p:nvGrpSpPr>
            <p:cNvPr id="557" name="Group 4"/>
            <p:cNvGrpSpPr/>
            <p:nvPr/>
          </p:nvGrpSpPr>
          <p:grpSpPr>
            <a:xfrm>
              <a:off x="2971800" y="2209680"/>
              <a:ext cx="380880" cy="2819520"/>
              <a:chOff x="2971800" y="2209680"/>
              <a:chExt cx="380880" cy="2819520"/>
            </a:xfrm>
          </p:grpSpPr>
          <p:sp>
            <p:nvSpPr>
              <p:cNvPr id="558" name="Oval 5"/>
              <p:cNvSpPr/>
              <p:nvPr/>
            </p:nvSpPr>
            <p:spPr>
              <a:xfrm>
                <a:off x="297180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9" name="Oval 6"/>
              <p:cNvSpPr/>
              <p:nvPr/>
            </p:nvSpPr>
            <p:spPr>
              <a:xfrm>
                <a:off x="297180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Oval 7"/>
              <p:cNvSpPr/>
              <p:nvPr/>
            </p:nvSpPr>
            <p:spPr>
              <a:xfrm>
                <a:off x="297180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1" name="Oval 8"/>
              <p:cNvSpPr/>
              <p:nvPr/>
            </p:nvSpPr>
            <p:spPr>
              <a:xfrm>
                <a:off x="297180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Oval 9"/>
              <p:cNvSpPr/>
              <p:nvPr/>
            </p:nvSpPr>
            <p:spPr>
              <a:xfrm>
                <a:off x="297180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3" name="Group 10"/>
            <p:cNvGrpSpPr/>
            <p:nvPr/>
          </p:nvGrpSpPr>
          <p:grpSpPr>
            <a:xfrm>
              <a:off x="3657240" y="2209680"/>
              <a:ext cx="380880" cy="2819520"/>
              <a:chOff x="3657240" y="2209680"/>
              <a:chExt cx="380880" cy="2819520"/>
            </a:xfrm>
          </p:grpSpPr>
          <p:sp>
            <p:nvSpPr>
              <p:cNvPr id="564" name="Oval 11"/>
              <p:cNvSpPr/>
              <p:nvPr/>
            </p:nvSpPr>
            <p:spPr>
              <a:xfrm>
                <a:off x="36572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5" name="Oval 12"/>
              <p:cNvSpPr/>
              <p:nvPr/>
            </p:nvSpPr>
            <p:spPr>
              <a:xfrm>
                <a:off x="36572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Oval 13"/>
              <p:cNvSpPr/>
              <p:nvPr/>
            </p:nvSpPr>
            <p:spPr>
              <a:xfrm>
                <a:off x="36572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Oval 14"/>
              <p:cNvSpPr/>
              <p:nvPr/>
            </p:nvSpPr>
            <p:spPr>
              <a:xfrm>
                <a:off x="36572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Oval 15"/>
              <p:cNvSpPr/>
              <p:nvPr/>
            </p:nvSpPr>
            <p:spPr>
              <a:xfrm>
                <a:off x="36572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9" name="Group 16"/>
            <p:cNvGrpSpPr/>
            <p:nvPr/>
          </p:nvGrpSpPr>
          <p:grpSpPr>
            <a:xfrm>
              <a:off x="4343040" y="2209680"/>
              <a:ext cx="380880" cy="2819520"/>
              <a:chOff x="4343040" y="2209680"/>
              <a:chExt cx="380880" cy="2819520"/>
            </a:xfrm>
          </p:grpSpPr>
          <p:sp>
            <p:nvSpPr>
              <p:cNvPr id="570" name="Oval 17"/>
              <p:cNvSpPr/>
              <p:nvPr/>
            </p:nvSpPr>
            <p:spPr>
              <a:xfrm>
                <a:off x="43430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Oval 18"/>
              <p:cNvSpPr/>
              <p:nvPr/>
            </p:nvSpPr>
            <p:spPr>
              <a:xfrm>
                <a:off x="43430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2" name="Oval 19"/>
              <p:cNvSpPr/>
              <p:nvPr/>
            </p:nvSpPr>
            <p:spPr>
              <a:xfrm>
                <a:off x="43430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Oval 20"/>
              <p:cNvSpPr/>
              <p:nvPr/>
            </p:nvSpPr>
            <p:spPr>
              <a:xfrm>
                <a:off x="43430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4" name="Oval 21"/>
              <p:cNvSpPr/>
              <p:nvPr/>
            </p:nvSpPr>
            <p:spPr>
              <a:xfrm>
                <a:off x="43430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75" name="Group 22"/>
            <p:cNvGrpSpPr/>
            <p:nvPr/>
          </p:nvGrpSpPr>
          <p:grpSpPr>
            <a:xfrm>
              <a:off x="5028840" y="2209680"/>
              <a:ext cx="380880" cy="2819520"/>
              <a:chOff x="5028840" y="2209680"/>
              <a:chExt cx="380880" cy="2819520"/>
            </a:xfrm>
          </p:grpSpPr>
          <p:sp>
            <p:nvSpPr>
              <p:cNvPr id="576" name="Oval 23"/>
              <p:cNvSpPr/>
              <p:nvPr/>
            </p:nvSpPr>
            <p:spPr>
              <a:xfrm>
                <a:off x="50288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7" name="Oval 24"/>
              <p:cNvSpPr/>
              <p:nvPr/>
            </p:nvSpPr>
            <p:spPr>
              <a:xfrm>
                <a:off x="50288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8" name="Oval 25"/>
              <p:cNvSpPr/>
              <p:nvPr/>
            </p:nvSpPr>
            <p:spPr>
              <a:xfrm>
                <a:off x="50288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9" name="Oval 26"/>
              <p:cNvSpPr/>
              <p:nvPr/>
            </p:nvSpPr>
            <p:spPr>
              <a:xfrm>
                <a:off x="50288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Oval 27"/>
              <p:cNvSpPr/>
              <p:nvPr/>
            </p:nvSpPr>
            <p:spPr>
              <a:xfrm>
                <a:off x="50288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1" name="Group 28"/>
            <p:cNvGrpSpPr/>
            <p:nvPr/>
          </p:nvGrpSpPr>
          <p:grpSpPr>
            <a:xfrm>
              <a:off x="5714640" y="2209680"/>
              <a:ext cx="380880" cy="2819520"/>
              <a:chOff x="5714640" y="2209680"/>
              <a:chExt cx="380880" cy="2819520"/>
            </a:xfrm>
          </p:grpSpPr>
          <p:sp>
            <p:nvSpPr>
              <p:cNvPr id="582" name="Oval 29"/>
              <p:cNvSpPr/>
              <p:nvPr/>
            </p:nvSpPr>
            <p:spPr>
              <a:xfrm>
                <a:off x="5714640" y="22096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Oval 30"/>
              <p:cNvSpPr/>
              <p:nvPr/>
            </p:nvSpPr>
            <p:spPr>
              <a:xfrm>
                <a:off x="5714640" y="28191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Oval 31"/>
              <p:cNvSpPr/>
              <p:nvPr/>
            </p:nvSpPr>
            <p:spPr>
              <a:xfrm>
                <a:off x="5714640" y="34290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5" name="Oval 32"/>
              <p:cNvSpPr/>
              <p:nvPr/>
            </p:nvSpPr>
            <p:spPr>
              <a:xfrm>
                <a:off x="5714640" y="403848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6" name="Oval 33"/>
              <p:cNvSpPr/>
              <p:nvPr/>
            </p:nvSpPr>
            <p:spPr>
              <a:xfrm>
                <a:off x="5714640" y="464796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700"/>
                  </a:spcBef>
                  <a:buClr>
                    <a:srgbClr val="000000"/>
                  </a:buClr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87" name="Text Box 34"/>
          <p:cNvSpPr/>
          <p:nvPr/>
        </p:nvSpPr>
        <p:spPr>
          <a:xfrm>
            <a:off x="4106880" y="5178240"/>
            <a:ext cx="8190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*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812-87CD-44F6-9B9D-8FAF6C0B3A4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29718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29718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Oval 7"/>
          <p:cNvSpPr/>
          <p:nvPr/>
        </p:nvSpPr>
        <p:spPr>
          <a:xfrm>
            <a:off x="29718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Oval 8"/>
          <p:cNvSpPr/>
          <p:nvPr/>
        </p:nvSpPr>
        <p:spPr>
          <a:xfrm>
            <a:off x="29718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29718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Oval 11"/>
          <p:cNvSpPr/>
          <p:nvPr/>
        </p:nvSpPr>
        <p:spPr>
          <a:xfrm>
            <a:off x="36576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Oval 12"/>
          <p:cNvSpPr/>
          <p:nvPr/>
        </p:nvSpPr>
        <p:spPr>
          <a:xfrm>
            <a:off x="36576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Oval 13"/>
          <p:cNvSpPr/>
          <p:nvPr/>
        </p:nvSpPr>
        <p:spPr>
          <a:xfrm>
            <a:off x="36576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36576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36576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Oval 17"/>
          <p:cNvSpPr/>
          <p:nvPr/>
        </p:nvSpPr>
        <p:spPr>
          <a:xfrm>
            <a:off x="43434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43434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Oval 20"/>
          <p:cNvSpPr/>
          <p:nvPr/>
        </p:nvSpPr>
        <p:spPr>
          <a:xfrm>
            <a:off x="43434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Oval 21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Oval 23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Oval 24"/>
          <p:cNvSpPr/>
          <p:nvPr/>
        </p:nvSpPr>
        <p:spPr>
          <a:xfrm>
            <a:off x="50292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Oval 25"/>
          <p:cNvSpPr/>
          <p:nvPr/>
        </p:nvSpPr>
        <p:spPr>
          <a:xfrm>
            <a:off x="50292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Oval 26"/>
          <p:cNvSpPr/>
          <p:nvPr/>
        </p:nvSpPr>
        <p:spPr>
          <a:xfrm>
            <a:off x="50292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Oval 27"/>
          <p:cNvSpPr/>
          <p:nvPr/>
        </p:nvSpPr>
        <p:spPr>
          <a:xfrm>
            <a:off x="50292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57150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Oval 30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Oval 31"/>
          <p:cNvSpPr/>
          <p:nvPr/>
        </p:nvSpPr>
        <p:spPr>
          <a:xfrm>
            <a:off x="57150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Oval 32"/>
          <p:cNvSpPr/>
          <p:nvPr/>
        </p:nvSpPr>
        <p:spPr>
          <a:xfrm>
            <a:off x="57150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Oval 33"/>
          <p:cNvSpPr/>
          <p:nvPr/>
        </p:nvSpPr>
        <p:spPr>
          <a:xfrm>
            <a:off x="57150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34"/>
          <p:cNvSpPr/>
          <p:nvPr/>
        </p:nvSpPr>
        <p:spPr>
          <a:xfrm>
            <a:off x="4314240" y="5178240"/>
            <a:ext cx="4046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0007-687F-49C6-853A-56FE7A01EB2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0" name="Oval 3"/>
          <p:cNvSpPr/>
          <p:nvPr/>
        </p:nvSpPr>
        <p:spPr>
          <a:xfrm>
            <a:off x="2971800" y="22096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9718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29718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718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Oval 7"/>
          <p:cNvSpPr/>
          <p:nvPr/>
        </p:nvSpPr>
        <p:spPr>
          <a:xfrm>
            <a:off x="29718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Oval 8"/>
          <p:cNvSpPr/>
          <p:nvPr/>
        </p:nvSpPr>
        <p:spPr>
          <a:xfrm>
            <a:off x="36576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Oval 9"/>
          <p:cNvSpPr/>
          <p:nvPr/>
        </p:nvSpPr>
        <p:spPr>
          <a:xfrm>
            <a:off x="3657600" y="28195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Oval 10"/>
          <p:cNvSpPr/>
          <p:nvPr/>
        </p:nvSpPr>
        <p:spPr>
          <a:xfrm>
            <a:off x="36576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Oval 11"/>
          <p:cNvSpPr/>
          <p:nvPr/>
        </p:nvSpPr>
        <p:spPr>
          <a:xfrm>
            <a:off x="36576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Oval 12"/>
          <p:cNvSpPr/>
          <p:nvPr/>
        </p:nvSpPr>
        <p:spPr>
          <a:xfrm>
            <a:off x="36576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Oval 13"/>
          <p:cNvSpPr/>
          <p:nvPr/>
        </p:nvSpPr>
        <p:spPr>
          <a:xfrm>
            <a:off x="43434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Oval 14"/>
          <p:cNvSpPr/>
          <p:nvPr/>
        </p:nvSpPr>
        <p:spPr>
          <a:xfrm>
            <a:off x="43434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Oval 16"/>
          <p:cNvSpPr/>
          <p:nvPr/>
        </p:nvSpPr>
        <p:spPr>
          <a:xfrm>
            <a:off x="43434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Oval 17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Oval 18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Oval 19"/>
          <p:cNvSpPr/>
          <p:nvPr/>
        </p:nvSpPr>
        <p:spPr>
          <a:xfrm>
            <a:off x="50292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Oval 20"/>
          <p:cNvSpPr/>
          <p:nvPr/>
        </p:nvSpPr>
        <p:spPr>
          <a:xfrm>
            <a:off x="50292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Oval 21"/>
          <p:cNvSpPr/>
          <p:nvPr/>
        </p:nvSpPr>
        <p:spPr>
          <a:xfrm>
            <a:off x="5029200" y="4038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Oval 22"/>
          <p:cNvSpPr/>
          <p:nvPr/>
        </p:nvSpPr>
        <p:spPr>
          <a:xfrm>
            <a:off x="5029200" y="46483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Oval 23"/>
          <p:cNvSpPr/>
          <p:nvPr/>
        </p:nvSpPr>
        <p:spPr>
          <a:xfrm>
            <a:off x="5715000" y="22096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Oval 24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Oval 25"/>
          <p:cNvSpPr/>
          <p:nvPr/>
        </p:nvSpPr>
        <p:spPr>
          <a:xfrm>
            <a:off x="5715000" y="3429000"/>
            <a:ext cx="38088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Oval 26"/>
          <p:cNvSpPr/>
          <p:nvPr/>
        </p:nvSpPr>
        <p:spPr>
          <a:xfrm>
            <a:off x="5715000" y="4038480"/>
            <a:ext cx="380880" cy="381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Oval 27"/>
          <p:cNvSpPr/>
          <p:nvPr/>
        </p:nvSpPr>
        <p:spPr>
          <a:xfrm>
            <a:off x="5715000" y="46483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3848400" y="5178240"/>
            <a:ext cx="1338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*n -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F06-8E4E-4A5A-BBA7-85D18EF2AB1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Visual Count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49" name="Group 29"/>
          <p:cNvGrpSpPr/>
          <p:nvPr/>
        </p:nvGrpSpPr>
        <p:grpSpPr>
          <a:xfrm>
            <a:off x="2971800" y="2209680"/>
            <a:ext cx="3124080" cy="2819520"/>
            <a:chOff x="2971800" y="2209680"/>
            <a:chExt cx="3124080" cy="2819520"/>
          </a:xfrm>
        </p:grpSpPr>
        <p:sp>
          <p:nvSpPr>
            <p:cNvPr id="650" name="Oval 3"/>
            <p:cNvSpPr/>
            <p:nvPr/>
          </p:nvSpPr>
          <p:spPr>
            <a:xfrm>
              <a:off x="2971800" y="22096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Oval 4"/>
            <p:cNvSpPr/>
            <p:nvPr/>
          </p:nvSpPr>
          <p:spPr>
            <a:xfrm>
              <a:off x="2971800" y="2819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>
              <a:off x="29718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6"/>
            <p:cNvSpPr/>
            <p:nvPr/>
          </p:nvSpPr>
          <p:spPr>
            <a:xfrm>
              <a:off x="29718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Oval 7"/>
            <p:cNvSpPr/>
            <p:nvPr/>
          </p:nvSpPr>
          <p:spPr>
            <a:xfrm>
              <a:off x="29718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Oval 8"/>
            <p:cNvSpPr/>
            <p:nvPr/>
          </p:nvSpPr>
          <p:spPr>
            <a:xfrm>
              <a:off x="36576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Oval 9"/>
            <p:cNvSpPr/>
            <p:nvPr/>
          </p:nvSpPr>
          <p:spPr>
            <a:xfrm>
              <a:off x="3657600" y="2819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36576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36576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43434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43434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4343400" y="342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43434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43434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50292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50292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5029200" y="342900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50292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50292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5715000" y="22096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5715000" y="281952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5715000" y="3429000"/>
              <a:ext cx="380880" cy="380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5715000" y="4038480"/>
              <a:ext cx="380880" cy="3812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5715000" y="46483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5" name="Text Box 28"/>
          <p:cNvSpPr/>
          <p:nvPr/>
        </p:nvSpPr>
        <p:spPr>
          <a:xfrm>
            <a:off x="2385000" y="5178240"/>
            <a:ext cx="4277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*n - n)/2 + n = n(n+1)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30F-7EEE-4933-8957-A78594A4E91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whenever the data are </a:t>
            </a: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totally order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 e.g., the integers. All elements are compar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orting in advance, and storing in an 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simplest to implement, often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 enough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tricky to handle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undary case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a classic </a:t>
            </a: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divide-and-conqu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7702-EC4D-4653-BA55-F3A792BEB99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dea of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osely related to the natural algorithm we use to look up a word in a diction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to the mid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arget comes before all words on the page, search in left half of 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, search in right hal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CF1-CF32-46A4-988F-3BAFD4531E1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Interface for Binary Search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(int [] a, int first, int size, int targ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 [] a: array to be searched o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over a[first,first+1,...,first+size-1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condi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y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orted in increasing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&gt;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A76-8C52-4C9C-BB8D-864CEDD27B3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 (int [] a, int start, int size, int targe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size &lt;= 0) 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middle = start + size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a[middle] == target) return midd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target &lt; a[middle]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start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middle+1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5A5-1A7D-4652-9FBB-1AF6F92F1D8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52480" y="2437920"/>
            <a:ext cx="56390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the error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size is odd. 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izes corr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size is even. A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izes corr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196F-BD15-4704-9365-D9DE5ACB8C4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5562720" y="4800600"/>
            <a:ext cx="152388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search (int [] a, int first, int size, int targe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size &lt;= 0) 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middle = first + size/2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a[middle] == target) return midd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target &lt; a[middle]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first, size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search(a, middle+1, </a:t>
            </a: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(size-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2, target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4C5-5E2A-43E9-B2E8-EDC3B0A075A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mplest method: serial 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-address ha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ined ha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C1AB-030B-4EC0-AA25-0454FAA92B3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oundary Cas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ary search is sometimes tricky to get righ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mon source of bug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cases are not always helpful for checking correctness of co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test cases would our first implementation sol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269-CB4A-4D29-BAFE-899F3C2FEFA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 with Other Data Structur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inary search be implemented using linked lists rather than arra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there any other data structures that could be us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9CB0-B486-46A1-95ED-03133EB9CEC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sis of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ly dividing up array in half represents data as a full binary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simplest case -- array of size n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1, complete binary tr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way one and divide by 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ize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only do that k times and k = Lg(n+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us, worst case involves Θ(log n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46B-5230-4DF6-A3DE-22788EB43F0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verage Ca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plete binary tree with k leaves has k-1 internal nod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, about half of the n data elements require Θ(log n) operations to fi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us, assuming uniform distribution on target elements, average cost is also Θ(log n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C6F4-6D31-429C-9649-BE7A94EAE51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Binary Search is Limite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we have a large number of items that will be accessed in part of the program, where efficiency is crucial, binary search may be too s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mproving Binary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2" name="TextBox 3"/>
          <p:cNvSpPr/>
          <p:nvPr/>
        </p:nvSpPr>
        <p:spPr>
          <a:xfrm>
            <a:off x="1497240" y="1676520"/>
            <a:ext cx="6631920" cy="39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guess more precisely where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is located in the inter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ize  middle = first + size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ey – a[first]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dle = ------------------------------ *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[first+size-1] – a[first]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546E-C1F0-495F-A048-F9C44A1EE6D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Footer Placeholder 5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terpolation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odifies method is called interpolation sear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 fewer than log(log(N)) comparisons in the average ca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uses Θ(N) in the worst c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analysis, see Perl, Ital, Avni 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polation Search – A Log Log 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ar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ACM 21 (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ges 550 – 55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log (log (N)) better that log (N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6B2-AB5A-4197-A580-B3594348C54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ng Log N to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Log(Log N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N = 2^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N = 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(Log N) = Log (100) = 6.6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N = 2^(2^1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N = 2^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(Log N) = Log 2^100 = 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100-85B3-4847-9E35-5F40B4048E2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mparing Log(N) to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 Log(Log N)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, by taking limit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 Log(Log(n)) / Log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n-&gt;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of the form inf. / in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y L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pital and take derivati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  1/(Log N) * 1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n-&gt;∞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-------------------- 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3CB-C209-435A-8A97-B09D4A8872F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094-B9AB-4D2F-A32A-1CAC9CB0C1C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tunately, we can often do bett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hing is a technique that where the access time can be O(1) rather than O(log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3F73-D1E5-4386-A2B3-878A245ABA3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 Algo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ever large amounts of data need to be accessed quickly, search algorithms are crucially involv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91A-9C24-4C80-994D-314A5C31D37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Address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asic techniqu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ms are stored in an array of size 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efer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 in the array is computed using a hash function of the ite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dding an item, if the preferred position is occupied, the next open position in the array is used inst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7B7-3851-4EA6-BABC-1AC7B24A6AD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Open Address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Main</a:t>
            </a:r>
            <a:r>
              <a:rPr b="0" lang="ja-JP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’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s presentation for Chapter 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603-BAA8-4CE3-9C05-E47085C8685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Basic Hash Tab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keep arrays for the keys and data, and a bit indicating whether a given position has been occup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class Table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int numItem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Object[] key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Object[] da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vate boolean[] hasBeenUse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BD7-EB88-4A68-9766-F1A332477F1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Hash Func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can use the built in hashCode() method that Java prov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int hash (Object key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Math.abs(key.hashCode()) % data.length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781-08C9-4008-AB57-6E966F95981C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alculating the Index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/ If found return value is index of ke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vate int findIndex(Object key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count=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i=hash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(count &lt; data.length) &amp;&amp; (hasBeenUsed[i])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key.equals(keys[i])) return 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= nextIndex(i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-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85F-D290-4D74-98D7-E07C4D229F4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ng an It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Object put (Object key, Object elemen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 index = findIndex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(index != -1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answer = data[index]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[index] = elemen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nswer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numItems &lt; data.length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BF8-A665-4133-AB15-849F97CF4CE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nserting an Ite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blic Object put (Object key, Object element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if (numItems &lt; data.length)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 = hash(ke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(keys[index] != nul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 = nextIndex(index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s[index] = ke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[index] = elemen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BeenUsed[index] = tru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Items++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null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throw new IllegalStateException(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full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D42-74B2-48D4-A4CC-25321B705C7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Two Hashes are Better than One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isions can result in long stretches of positions with keys not in their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0" i="1" lang="en-US" sz="3200" spc="-1" strike="noStrike">
                <a:solidFill>
                  <a:srgbClr val="fc0128"/>
                </a:solidFill>
                <a:latin typeface="Verdana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address this problem, when a collision results we jump a 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umber of positions, using a second hash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61AC-81D2-4E86-AFE1-9110EFD1AF3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first position us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1(ke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a collision, step through the array in steps of s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2(key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= (i + hash2(key)) % data.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void cycle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h2(ke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length of the arra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ust be relatively pr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o common facto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F30-08B1-42EC-8E13-9061F61B00C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ouble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uth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technique to avoid cyc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the length of the array so that both data.length and data.length-2 are pr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h1(key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.abs(key.hashCode()) %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h2(key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+ (Math.abs(key.hashCode()) % (length-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BBC-9990-4F92-B4C2-CE6D8D3E37B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earch Algorith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e at the heart of many computer technologies. To name a fe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trieval 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infrastructure (file systems, domain name server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ng searching for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812-16FF-4079-B563-A752E403291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Issues with O-A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cell holds only one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isions and clustering can degrade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the array is full, no more elements can be added, unless w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new array with the right size and hash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hash the original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0C45-D44C-4946-8186-8E589272252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cell can hold more than one element of the hash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h the key of each element to obtain the array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collision happens, the element is still placed at the original hash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is this handl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BD1-BA39-4433-8040-2A3BD56484D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array location must be implemented with a data structure that can hold a group of elements with the same hash ind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array location stores the head of a linked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in the list all have the same has ind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BF8F-FDE8-4B98-A369-7D2DABC89F3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hained Hash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952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95640" y="1676160"/>
            <a:ext cx="7246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40384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2096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124080" y="1523880"/>
            <a:ext cx="9144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5047920" y="1700280"/>
            <a:ext cx="4654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15595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239760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Text Box 11"/>
          <p:cNvSpPr/>
          <p:nvPr/>
        </p:nvSpPr>
        <p:spPr>
          <a:xfrm>
            <a:off x="33883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4302720" y="2286000"/>
            <a:ext cx="4654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6" name="Group 21"/>
          <p:cNvGrpSpPr/>
          <p:nvPr/>
        </p:nvGrpSpPr>
        <p:grpSpPr>
          <a:xfrm>
            <a:off x="762120" y="2819520"/>
            <a:ext cx="1218960" cy="1371600"/>
            <a:chOff x="762120" y="2819520"/>
            <a:chExt cx="1218960" cy="1371600"/>
          </a:xfrm>
        </p:grpSpPr>
        <p:sp>
          <p:nvSpPr>
            <p:cNvPr id="807" name="Text Box 13"/>
            <p:cNvSpPr/>
            <p:nvPr/>
          </p:nvSpPr>
          <p:spPr>
            <a:xfrm>
              <a:off x="78372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Text Box 14"/>
            <p:cNvSpPr/>
            <p:nvPr/>
          </p:nvSpPr>
          <p:spPr>
            <a:xfrm>
              <a:off x="78048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76212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76212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76212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19"/>
            <p:cNvSpPr/>
            <p:nvPr/>
          </p:nvSpPr>
          <p:spPr>
            <a:xfrm>
              <a:off x="77328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144792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Line 22"/>
          <p:cNvSpPr/>
          <p:nvPr/>
        </p:nvSpPr>
        <p:spPr>
          <a:xfrm flipH="1">
            <a:off x="1371600" y="190512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Line 23"/>
          <p:cNvSpPr/>
          <p:nvPr/>
        </p:nvSpPr>
        <p:spPr>
          <a:xfrm>
            <a:off x="3581280" y="19051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24"/>
          <p:cNvGrpSpPr/>
          <p:nvPr/>
        </p:nvGrpSpPr>
        <p:grpSpPr>
          <a:xfrm>
            <a:off x="3505320" y="2819520"/>
            <a:ext cx="1218960" cy="1371600"/>
            <a:chOff x="3505320" y="2819520"/>
            <a:chExt cx="1218960" cy="1371600"/>
          </a:xfrm>
        </p:grpSpPr>
        <p:sp>
          <p:nvSpPr>
            <p:cNvPr id="817" name="Text Box 25"/>
            <p:cNvSpPr/>
            <p:nvPr/>
          </p:nvSpPr>
          <p:spPr>
            <a:xfrm>
              <a:off x="352692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26"/>
            <p:cNvSpPr/>
            <p:nvPr/>
          </p:nvSpPr>
          <p:spPr>
            <a:xfrm>
              <a:off x="352368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Rectangle 27"/>
            <p:cNvSpPr/>
            <p:nvPr/>
          </p:nvSpPr>
          <p:spPr>
            <a:xfrm>
              <a:off x="350532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28"/>
            <p:cNvSpPr/>
            <p:nvPr/>
          </p:nvSpPr>
          <p:spPr>
            <a:xfrm>
              <a:off x="350532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Rectangle 29"/>
            <p:cNvSpPr/>
            <p:nvPr/>
          </p:nvSpPr>
          <p:spPr>
            <a:xfrm>
              <a:off x="350532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Text Box 30"/>
            <p:cNvSpPr/>
            <p:nvPr/>
          </p:nvSpPr>
          <p:spPr>
            <a:xfrm>
              <a:off x="351648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Line 31"/>
            <p:cNvSpPr/>
            <p:nvPr/>
          </p:nvSpPr>
          <p:spPr>
            <a:xfrm>
              <a:off x="419112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4" name="Group 32"/>
          <p:cNvGrpSpPr/>
          <p:nvPr/>
        </p:nvGrpSpPr>
        <p:grpSpPr>
          <a:xfrm>
            <a:off x="3505320" y="4191120"/>
            <a:ext cx="1218960" cy="1371600"/>
            <a:chOff x="3505320" y="4191120"/>
            <a:chExt cx="1218960" cy="1371600"/>
          </a:xfrm>
        </p:grpSpPr>
        <p:sp>
          <p:nvSpPr>
            <p:cNvPr id="825" name="Text Box 33"/>
            <p:cNvSpPr/>
            <p:nvPr/>
          </p:nvSpPr>
          <p:spPr>
            <a:xfrm>
              <a:off x="3526920" y="41911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3523680" y="45720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Rectangle 35"/>
            <p:cNvSpPr/>
            <p:nvPr/>
          </p:nvSpPr>
          <p:spPr>
            <a:xfrm>
              <a:off x="3505320" y="41911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Rectangle 36"/>
            <p:cNvSpPr/>
            <p:nvPr/>
          </p:nvSpPr>
          <p:spPr>
            <a:xfrm>
              <a:off x="3505320" y="45720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Rectangle 37"/>
            <p:cNvSpPr/>
            <p:nvPr/>
          </p:nvSpPr>
          <p:spPr>
            <a:xfrm>
              <a:off x="3505320" y="49532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Text Box 38"/>
            <p:cNvSpPr/>
            <p:nvPr/>
          </p:nvSpPr>
          <p:spPr>
            <a:xfrm>
              <a:off x="3516480" y="49528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Line 39"/>
            <p:cNvSpPr/>
            <p:nvPr/>
          </p:nvSpPr>
          <p:spPr>
            <a:xfrm>
              <a:off x="4191120" y="51818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2" name="Group 40"/>
          <p:cNvGrpSpPr/>
          <p:nvPr/>
        </p:nvGrpSpPr>
        <p:grpSpPr>
          <a:xfrm>
            <a:off x="5181480" y="2819520"/>
            <a:ext cx="1218960" cy="1371600"/>
            <a:chOff x="5181480" y="2819520"/>
            <a:chExt cx="1218960" cy="1371600"/>
          </a:xfrm>
        </p:grpSpPr>
        <p:sp>
          <p:nvSpPr>
            <p:cNvPr id="833" name="Text Box 41"/>
            <p:cNvSpPr/>
            <p:nvPr/>
          </p:nvSpPr>
          <p:spPr>
            <a:xfrm>
              <a:off x="5203080" y="2819520"/>
              <a:ext cx="1070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Text Box 42"/>
            <p:cNvSpPr/>
            <p:nvPr/>
          </p:nvSpPr>
          <p:spPr>
            <a:xfrm>
              <a:off x="5199840" y="3200400"/>
              <a:ext cx="553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Rectangle 43"/>
            <p:cNvSpPr/>
            <p:nvPr/>
          </p:nvSpPr>
          <p:spPr>
            <a:xfrm>
              <a:off x="5181480" y="281952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Rectangle 44"/>
            <p:cNvSpPr/>
            <p:nvPr/>
          </p:nvSpPr>
          <p:spPr>
            <a:xfrm>
              <a:off x="5181480" y="3200400"/>
              <a:ext cx="1218960" cy="3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Rectangle 45"/>
            <p:cNvSpPr/>
            <p:nvPr/>
          </p:nvSpPr>
          <p:spPr>
            <a:xfrm>
              <a:off x="5181480" y="3581640"/>
              <a:ext cx="121896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Text Box 46"/>
            <p:cNvSpPr/>
            <p:nvPr/>
          </p:nvSpPr>
          <p:spPr>
            <a:xfrm>
              <a:off x="5192640" y="3581280"/>
              <a:ext cx="5677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Line 47"/>
            <p:cNvSpPr/>
            <p:nvPr/>
          </p:nvSpPr>
          <p:spPr>
            <a:xfrm>
              <a:off x="5867280" y="3810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0" name="Line 48"/>
          <p:cNvSpPr/>
          <p:nvPr/>
        </p:nvSpPr>
        <p:spPr>
          <a:xfrm>
            <a:off x="4495680" y="19051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5217480" y="4419360"/>
            <a:ext cx="36748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Any number of elements can be</a:t>
            </a:r>
            <a:br>
              <a:rPr sz="1800"/>
            </a:b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added to the table without a need </a:t>
            </a:r>
            <a:br>
              <a:rPr sz="1800"/>
            </a:br>
            <a:r>
              <a:rPr b="0" i="1" lang="en-US" sz="1800" spc="-1" strike="noStrike">
                <a:solidFill>
                  <a:srgbClr val="fc0128"/>
                </a:solidFill>
                <a:latin typeface="Verdana"/>
              </a:rPr>
              <a:t>to reha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Java HashMa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3" name="Slide Number Placeholder 2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C98A-3B92-45FC-90DF-F4E037F4193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1397160" y="1244520"/>
            <a:ext cx="63496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CAD8-ECE4-43FC-91E3-CC47118A422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earch Algorithms: Two Broad Categorie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arching a static datab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ing indexed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a file on d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ing a dynamically changing set of hypothe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chess (search for a m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ech recognition (search for text given spee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 be concerned with the fi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6AD-193F-4C20-AC66-2187BD0473A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The Simplest Search:  Serial Lookup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ms are stored in an array or li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search for an item x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current item to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unequal, proceed to next i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2D8-A38C-4603-B024-3C537DAE0DD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seudocode for Serial Search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5791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/ Find x in an array a of length 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lean found = fals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le ((i &lt; n) &amp;&amp; !found) 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(a[i] == x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nd = tru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se i++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(found) 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86C-CB5A-4273-9430-59D9DC8913A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nalysis for Serial Search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st case: Requires one array access: Θ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st case: Requires n array accesses: Θ(n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case: To access an item, assuming position is random (uniform):(1+2+3+...+n)/n = n(n+1)/2n = (n+1)/2 = Θ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CAED-F97A-4A2B-8EFC-3E900255814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9: Searc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 Useful Combinatorial Identit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1905120" y="2855520"/>
            <a:ext cx="5719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+2+3+…+n = n(n+1)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ebraic Proof in 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2:41:41Z</dcterms:created>
  <dc:creator>Michael Main and Walter Savitch</dc:creator>
  <dc:description>Presentation from Chapter 10.
Copyright 1997, by Addison Wesley Longman.</dc:description>
  <cp:keywords/>
  <dc:language>en-US</dc:language>
  <cp:lastModifiedBy>Michael McCarthy</cp:lastModifiedBy>
  <cp:lastPrinted>1999-06-02T03:11:26Z</cp:lastPrinted>
  <dcterms:modified xsi:type="dcterms:W3CDTF">2016-03-03T15:33:34Z</dcterms:modified>
  <cp:revision>79</cp:revision>
  <dc:subject>Complete Binary Trees</dc:subject>
  <dc:title>Data Structures and Other Objects Using C++</dc:title>
</cp:coreProperties>
</file>