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B99A-3FA7-482F-B898-EBF631D25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FA83-2120-41DE-9E77-6515650C64E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8957B5-2595-4E72-868C-8809957A062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901D3C-D40C-4500-992C-76CE69F95D5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3516E3-1FE8-474E-B97E-145EC6072EE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AE736B-FA8A-40DF-B2F1-C5558484CC5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CF21D7-E3C2-46D0-94FF-6BA1C3B4421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DCAF94-D2E4-4A6B-AF42-7FA82611B94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5D9862-E42D-417B-A8B8-514D89A89CC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ED26CE-5C5A-46AF-8A9D-47BC7A2CF2C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45C97A-8CDD-483B-B6F1-92FA4D4E5D0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DA3FCD-FF00-4256-B3D6-D93F8E00B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8FDE-466A-4BCF-9AAC-4F49A36BD12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8E3D02-FCF0-4F1D-B197-E3A90CB8EB7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B31AD3-EA2E-4B8A-8C9B-0EF6BEE96D1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376285-CCF5-4D6E-842B-73470B70FD7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83C7A9-B5DA-4985-9C0E-B6521B7FF46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6E0A34-240C-4FC5-9630-2D1CE355C6B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87AB1F-443B-40D7-985A-ADBA5F75334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C55E83-A718-4E64-891A-5E24A47E7B5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EE34F1-A827-4489-B044-CD786CB5840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9DB7BC-2B9B-49E8-85C3-404FEEB2697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76C493-BE7A-4F1A-BF87-BE884EE41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F456-081D-4C1A-B5B3-7DB92A62456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8890BD-5ACD-4DFA-95F1-D08FC59CD35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0524B-1ABB-45C8-AEE0-6EE7DCA874B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04D0A-9ED7-4C0F-953F-3E0A2E7E8A4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DADAF-24BF-40B2-82A4-905154A1EB8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87CFD-07E1-4B79-BD50-048F44DDF3F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F906F-BC91-43B9-A7E1-3CFFB739092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ADD28-1CC7-45BA-B31C-602CFE93AA4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87CA6-BC34-4A4E-953E-4440283E250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FFA0D-C2ED-4871-8B41-5D95AC8327A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A3065-E2A7-4D4E-A434-8EEE3D4DF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975-3445-415D-91C4-654CA7C4C29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B51EA-40E4-4B90-9F0C-1D131EA0CE9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3B980-5AD0-4720-A68C-4EF07656317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82236-2C3C-4A92-A40B-C35E0674F86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8EF47E-D244-4012-9B53-DF98458AAB8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C3FED3-3BF9-4D17-B6B3-FFAB69306A4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CACD1A-3BA7-45D4-9D98-7BD37467E68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E81325-1CCF-43A1-9AB0-74077E6F7E2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1D4480-C5A1-490C-A9ED-E07D67C3CBF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AEDF64-1067-4E4C-B928-02DE17B8104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CE80AE-11DD-484C-9437-47ACF7A2A2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1951-D237-4B2C-B724-FA1F091F9E2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E27D9B-BDF6-4B14-A291-F8BBF19AA7D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460DC3-1C14-4FEF-892D-68BD13AC543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C82B64-9AFB-4C7D-8371-06734A8191A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E004B3-01FF-46C6-8580-87BDAAC7844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1C96B2-EF67-4426-B1CF-E6170086B2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D60-6AA8-4E4F-BE01-BE553DBD69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1B66-4597-4D91-9423-8E2F9381A9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FA3-CA67-4047-BFCB-68C9099A5F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8146-4106-46E0-AF6E-E20E5079E6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D522-6A14-4C76-9A09-058A0C5357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5635-1FFE-4C88-BF98-63FFDC3D0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D72-E12E-4C87-9C0C-2AB29EDB48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A34-97BC-4D2E-B470-045BA2A265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2C6-CA6C-4CB3-8DF3-269FDF1C91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E13F-702D-4FC4-B7C0-0BCACC6DE2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BF5-9C2E-4758-A9B1-A8883D0D50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D7EA7-A222-45A7-9B9A-C396AB433F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30474-253C-4110-85A4-EFD6A3B11A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241F8-6C9A-4915-958F-BC0AF68DCC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8A02D-E9EB-475E-91F2-C5DFFD5E0B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A3068-6F7D-4E9C-832B-FFD1D8C4D1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DF34-724C-4E4F-BD9F-3ECCCF85AB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8AC86-D9B9-45C8-9EF5-BC636F2F65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0BAE9-6B07-41F6-91BC-44AF027012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0076B-5C6C-4623-91A8-284F134575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3FBFA-3C26-45B7-8176-9F9A9970B9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3FCDD-7427-4318-8443-4F7D0D75AD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0656E-5E8D-4E8B-AC66-686D9B09BF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9C459-4C0C-43ED-B97A-4B03562FDBA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D37CA5-CD8D-421E-8D8A-242DBBE8E0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C5E618-1202-43D6-AD27-72DBADFC44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642739-0778-4C98-BEBB-E4712F867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B293-EBE5-4520-8992-DFB0B3AC01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DE68DF-C528-4862-A52F-8FA9E119E1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CA8FC2-B6D9-4FAE-9546-A6DAEC681D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82F1AA-F6ED-48E0-83B5-A1935A7AA77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DBBB0C-8AC2-4E31-B155-1D6CB0E5F4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A38011-3780-46D4-B906-7101881B3F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4F0F70-3170-4E31-8CB6-9D5C1AE82F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45D2D4-404D-4FBC-892C-E9A76CCD18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CCFA05-C83F-499F-86C4-7B4BFFA7C67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6A8CE0-1596-4F33-A3EA-1E1DA232FC1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8EF4D-EFC1-40E2-B527-A4905A2BB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EBA8-8DB9-46E2-AA9D-EBECE2DD025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F0897-3B7C-4E22-A81C-7CE9581F8C3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5891D-754F-471E-9574-8A88C5382DD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F093E-27A3-4AC6-9B6F-756EE4F33AD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71DBE-3216-43C7-ABCD-80FBF9DC9A1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33CFD-7F4B-4739-94C8-BC2AC6D9579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FF699-23DB-4239-A22E-BE67D71F10B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1B575-BA46-4430-B69A-1FA84AF66A6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A81B2-7B8A-4A5A-B5BF-EAB4E4AB3F5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39705-E604-47F9-B696-1505B5D6353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6E0DD-B90A-4974-B24E-4D50A66D6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0A6E-B618-4794-9E30-1564FA670EC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A6628-BD4E-451F-A7BC-784A9DBC1A6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338B20-2000-4E7B-B58D-BD218A610E6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94479D-4CF6-4B46-8D73-B8FC901C424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7A9B35-9993-47E2-AC65-7BBC09E9269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05148C-7C9D-44BB-94BF-16D15BEEB3D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DE2A1F-B358-48F4-90AB-7B16EA8DCDD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0A1A8C-9ED8-48ED-9CE8-89024AC9D80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B44022-B569-4C55-84DA-60EE00B9708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3D70AB-333D-47AD-934E-AFF94C403B0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4FF633-1AE6-4CBA-A115-DC2E99F9B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8B43-9421-4020-80C3-D83F1BF234E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6ABDD6-44EF-4D98-A6F2-AE85ACBD02F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34C617-CC74-465C-A02B-B1173E505EE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0F00EC-7F67-4108-873A-D60DAB6073E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968FE9-74C3-4EF8-8D5F-98B349D3B09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B5BE52-472D-4939-9B10-206604C11E7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2D87F3-0F1E-4F73-AE8F-3724508CFAC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72453F-2EA8-49F0-B511-7BE1E890947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9D3010-F020-424D-BB1A-B6ABB3C8B33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9E9DE7-7C61-4065-B41C-EBCE22534B7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8DCCF4-E499-476C-AA31-483C80564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072B2-B3E2-4240-A2D4-C471AE717E8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6E8136-FEA0-4EE2-B814-FF6ADFD6C52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B067A9-2D8D-4FC3-9512-5C5A9F4626E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DF0DD7-C413-4689-A44C-1B7D9F7CB3B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7B7477-7500-48A2-A839-B620E69CDE2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6F5B38-89E7-4192-933F-BBCE786B56A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14B43-B4E5-4F5B-9F90-C06D4A79C01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C6437-2F36-4819-87EF-05C88924DD5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AA4B7-95BF-458C-B395-21E2FF6938F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B65D1-ADED-4132-8B0A-C8BBA1CC566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498F2-451F-46B7-8F4A-D2CE7261D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1786-E4B5-4B74-B3B6-E8D6997D9FB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0BFC3-9F9B-4A39-BF84-22AE0A360A4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F9860-A3F2-4D10-AFB4-C5533FCAEC6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C06CC-E078-4FB1-9B7C-051A2FF0373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71764-0329-4804-82B2-3900FFFFCD3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C964C-D163-4972-84FB-E208A988ABD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7160B-53C1-4B32-911E-14064484565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4E9A7-4378-434A-84FD-BB3C2BDA795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3D70B1-A6AB-4316-93EE-982064C5CC5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92A52B-E747-4FF6-9B2E-07288DEB132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40EF2E-A13D-4124-8B09-109257A8F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DA22-D7FF-4A86-965F-9E330EA3637E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81CF-47E7-4716-87B8-1B2523A5EDE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2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A00B-3192-49D4-93DE-9F557335C7D2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5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D060-F6B7-474A-8DD2-E8814A4C3C83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69EC-EFE8-4471-8DF6-1782516FC787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D6BB-D39E-4EF7-A2FB-E84B7A141DB6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8899-4341-4D36-A9B6-04B49F27AF78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A8FC-AB3E-4D4E-9DEF-9662798DB16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A708-5A6A-4DA2-AE90-9E578F186F16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9357-FAC4-4211-A8CA-3D6EB1DC6978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1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FD8C-FB1D-4789-BF2F-A529082B16A8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C6C4-81E0-4E77-9F1E-DED7FBCDC13B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..%5C..%5C..%5C..%5CTEMP%5CContent.IE5%5CC1M3456V%5CMain_Java11.ppt" TargetMode="External"/><Relationship Id="rId2" Type="http://schemas.openxmlformats.org/officeDocument/2006/relationships/hyperlink" Target="file:///..%5C..%5C..%5C..%5CTEMP%5CContent.IE5%5CC1M3456V%5CMain_Java11.ppt" TargetMode="External"/><Relationship Id="rId3" Type="http://schemas.openxmlformats.org/officeDocument/2006/relationships/hyperlink" Target="file:///..%5C..%5C..%5C..%5CTEMP%5CContent.IE5%5CC1M3456V%5CMain_Java11.ppt" TargetMode="External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7940-3215-4451-BA48-2DD01D3E5E3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ata Structures and Algorithms for Information Process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cture 9: Search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0" name="Object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6EBD-F88E-48F8-9353-FF051E223E7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Visual Count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556" name="Group 3"/>
          <p:cNvGrpSpPr/>
          <p:nvPr/>
        </p:nvGrpSpPr>
        <p:grpSpPr>
          <a:xfrm>
            <a:off x="2971800" y="2209680"/>
            <a:ext cx="3123720" cy="2819520"/>
            <a:chOff x="2971800" y="2209680"/>
            <a:chExt cx="3123720" cy="2819520"/>
          </a:xfrm>
        </p:grpSpPr>
        <p:grpSp>
          <p:nvGrpSpPr>
            <p:cNvPr id="557" name="Group 4"/>
            <p:cNvGrpSpPr/>
            <p:nvPr/>
          </p:nvGrpSpPr>
          <p:grpSpPr>
            <a:xfrm>
              <a:off x="2971800" y="2209680"/>
              <a:ext cx="380880" cy="2819520"/>
              <a:chOff x="2971800" y="2209680"/>
              <a:chExt cx="380880" cy="2819520"/>
            </a:xfrm>
          </p:grpSpPr>
          <p:sp>
            <p:nvSpPr>
              <p:cNvPr id="558" name="Oval 5"/>
              <p:cNvSpPr/>
              <p:nvPr/>
            </p:nvSpPr>
            <p:spPr>
              <a:xfrm>
                <a:off x="2971800" y="220968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9" name="Oval 6"/>
              <p:cNvSpPr/>
              <p:nvPr/>
            </p:nvSpPr>
            <p:spPr>
              <a:xfrm>
                <a:off x="2971800" y="28191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0" name="Oval 7"/>
              <p:cNvSpPr/>
              <p:nvPr/>
            </p:nvSpPr>
            <p:spPr>
              <a:xfrm>
                <a:off x="2971800" y="342900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1" name="Oval 8"/>
              <p:cNvSpPr/>
              <p:nvPr/>
            </p:nvSpPr>
            <p:spPr>
              <a:xfrm>
                <a:off x="2971800" y="403848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2" name="Oval 9"/>
              <p:cNvSpPr/>
              <p:nvPr/>
            </p:nvSpPr>
            <p:spPr>
              <a:xfrm>
                <a:off x="2971800" y="46479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3" name="Group 10"/>
            <p:cNvGrpSpPr/>
            <p:nvPr/>
          </p:nvGrpSpPr>
          <p:grpSpPr>
            <a:xfrm>
              <a:off x="3657240" y="2209680"/>
              <a:ext cx="380880" cy="2819520"/>
              <a:chOff x="3657240" y="2209680"/>
              <a:chExt cx="380880" cy="2819520"/>
            </a:xfrm>
          </p:grpSpPr>
          <p:sp>
            <p:nvSpPr>
              <p:cNvPr id="564" name="Oval 11"/>
              <p:cNvSpPr/>
              <p:nvPr/>
            </p:nvSpPr>
            <p:spPr>
              <a:xfrm>
                <a:off x="3657240" y="220968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5" name="Oval 12"/>
              <p:cNvSpPr/>
              <p:nvPr/>
            </p:nvSpPr>
            <p:spPr>
              <a:xfrm>
                <a:off x="3657240" y="28191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6" name="Oval 13"/>
              <p:cNvSpPr/>
              <p:nvPr/>
            </p:nvSpPr>
            <p:spPr>
              <a:xfrm>
                <a:off x="3657240" y="342900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7" name="Oval 14"/>
              <p:cNvSpPr/>
              <p:nvPr/>
            </p:nvSpPr>
            <p:spPr>
              <a:xfrm>
                <a:off x="3657240" y="403848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8" name="Oval 15"/>
              <p:cNvSpPr/>
              <p:nvPr/>
            </p:nvSpPr>
            <p:spPr>
              <a:xfrm>
                <a:off x="3657240" y="46479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9" name="Group 16"/>
            <p:cNvGrpSpPr/>
            <p:nvPr/>
          </p:nvGrpSpPr>
          <p:grpSpPr>
            <a:xfrm>
              <a:off x="4343040" y="2209680"/>
              <a:ext cx="380880" cy="2819520"/>
              <a:chOff x="4343040" y="2209680"/>
              <a:chExt cx="380880" cy="2819520"/>
            </a:xfrm>
          </p:grpSpPr>
          <p:sp>
            <p:nvSpPr>
              <p:cNvPr id="570" name="Oval 17"/>
              <p:cNvSpPr/>
              <p:nvPr/>
            </p:nvSpPr>
            <p:spPr>
              <a:xfrm>
                <a:off x="4343040" y="220968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1" name="Oval 18"/>
              <p:cNvSpPr/>
              <p:nvPr/>
            </p:nvSpPr>
            <p:spPr>
              <a:xfrm>
                <a:off x="4343040" y="28191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2" name="Oval 19"/>
              <p:cNvSpPr/>
              <p:nvPr/>
            </p:nvSpPr>
            <p:spPr>
              <a:xfrm>
                <a:off x="4343040" y="342900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3" name="Oval 20"/>
              <p:cNvSpPr/>
              <p:nvPr/>
            </p:nvSpPr>
            <p:spPr>
              <a:xfrm>
                <a:off x="4343040" y="403848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4" name="Oval 21"/>
              <p:cNvSpPr/>
              <p:nvPr/>
            </p:nvSpPr>
            <p:spPr>
              <a:xfrm>
                <a:off x="4343040" y="46479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75" name="Group 22"/>
            <p:cNvGrpSpPr/>
            <p:nvPr/>
          </p:nvGrpSpPr>
          <p:grpSpPr>
            <a:xfrm>
              <a:off x="5028840" y="2209680"/>
              <a:ext cx="380880" cy="2819520"/>
              <a:chOff x="5028840" y="2209680"/>
              <a:chExt cx="380880" cy="2819520"/>
            </a:xfrm>
          </p:grpSpPr>
          <p:sp>
            <p:nvSpPr>
              <p:cNvPr id="576" name="Oval 23"/>
              <p:cNvSpPr/>
              <p:nvPr/>
            </p:nvSpPr>
            <p:spPr>
              <a:xfrm>
                <a:off x="5028840" y="220968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7" name="Oval 24"/>
              <p:cNvSpPr/>
              <p:nvPr/>
            </p:nvSpPr>
            <p:spPr>
              <a:xfrm>
                <a:off x="5028840" y="28191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8" name="Oval 25"/>
              <p:cNvSpPr/>
              <p:nvPr/>
            </p:nvSpPr>
            <p:spPr>
              <a:xfrm>
                <a:off x="5028840" y="342900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9" name="Oval 26"/>
              <p:cNvSpPr/>
              <p:nvPr/>
            </p:nvSpPr>
            <p:spPr>
              <a:xfrm>
                <a:off x="5028840" y="403848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0" name="Oval 27"/>
              <p:cNvSpPr/>
              <p:nvPr/>
            </p:nvSpPr>
            <p:spPr>
              <a:xfrm>
                <a:off x="5028840" y="46479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81" name="Group 28"/>
            <p:cNvGrpSpPr/>
            <p:nvPr/>
          </p:nvGrpSpPr>
          <p:grpSpPr>
            <a:xfrm>
              <a:off x="5714640" y="2209680"/>
              <a:ext cx="380880" cy="2819520"/>
              <a:chOff x="5714640" y="2209680"/>
              <a:chExt cx="380880" cy="2819520"/>
            </a:xfrm>
          </p:grpSpPr>
          <p:sp>
            <p:nvSpPr>
              <p:cNvPr id="582" name="Oval 29"/>
              <p:cNvSpPr/>
              <p:nvPr/>
            </p:nvSpPr>
            <p:spPr>
              <a:xfrm>
                <a:off x="5714640" y="220968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3" name="Oval 30"/>
              <p:cNvSpPr/>
              <p:nvPr/>
            </p:nvSpPr>
            <p:spPr>
              <a:xfrm>
                <a:off x="5714640" y="28191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4" name="Oval 31"/>
              <p:cNvSpPr/>
              <p:nvPr/>
            </p:nvSpPr>
            <p:spPr>
              <a:xfrm>
                <a:off x="5714640" y="342900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5" name="Oval 32"/>
              <p:cNvSpPr/>
              <p:nvPr/>
            </p:nvSpPr>
            <p:spPr>
              <a:xfrm>
                <a:off x="5714640" y="403848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6" name="Oval 33"/>
              <p:cNvSpPr/>
              <p:nvPr/>
            </p:nvSpPr>
            <p:spPr>
              <a:xfrm>
                <a:off x="5714640" y="46479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87" name="Text Box 34"/>
          <p:cNvSpPr/>
          <p:nvPr/>
        </p:nvSpPr>
        <p:spPr>
          <a:xfrm>
            <a:off x="4106880" y="5178240"/>
            <a:ext cx="81900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*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678E-81BC-4EBD-8F38-EC408858E07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Visual Count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1" name="Oval 5"/>
          <p:cNvSpPr/>
          <p:nvPr/>
        </p:nvSpPr>
        <p:spPr>
          <a:xfrm>
            <a:off x="2971800" y="2209680"/>
            <a:ext cx="380880" cy="381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Oval 6"/>
          <p:cNvSpPr/>
          <p:nvPr/>
        </p:nvSpPr>
        <p:spPr>
          <a:xfrm>
            <a:off x="2971800" y="28195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Oval 7"/>
          <p:cNvSpPr/>
          <p:nvPr/>
        </p:nvSpPr>
        <p:spPr>
          <a:xfrm>
            <a:off x="2971800" y="342900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Oval 8"/>
          <p:cNvSpPr/>
          <p:nvPr/>
        </p:nvSpPr>
        <p:spPr>
          <a:xfrm>
            <a:off x="2971800" y="4038480"/>
            <a:ext cx="3808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Oval 9"/>
          <p:cNvSpPr/>
          <p:nvPr/>
        </p:nvSpPr>
        <p:spPr>
          <a:xfrm>
            <a:off x="2971800" y="46483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Oval 11"/>
          <p:cNvSpPr/>
          <p:nvPr/>
        </p:nvSpPr>
        <p:spPr>
          <a:xfrm>
            <a:off x="3657600" y="2209680"/>
            <a:ext cx="3808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Oval 12"/>
          <p:cNvSpPr/>
          <p:nvPr/>
        </p:nvSpPr>
        <p:spPr>
          <a:xfrm>
            <a:off x="3657600" y="281952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Oval 13"/>
          <p:cNvSpPr/>
          <p:nvPr/>
        </p:nvSpPr>
        <p:spPr>
          <a:xfrm>
            <a:off x="3657600" y="342900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Oval 14"/>
          <p:cNvSpPr/>
          <p:nvPr/>
        </p:nvSpPr>
        <p:spPr>
          <a:xfrm>
            <a:off x="3657600" y="4038480"/>
            <a:ext cx="3808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Oval 15"/>
          <p:cNvSpPr/>
          <p:nvPr/>
        </p:nvSpPr>
        <p:spPr>
          <a:xfrm>
            <a:off x="3657600" y="46483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Oval 17"/>
          <p:cNvSpPr/>
          <p:nvPr/>
        </p:nvSpPr>
        <p:spPr>
          <a:xfrm>
            <a:off x="4343400" y="2209680"/>
            <a:ext cx="3808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Oval 18"/>
          <p:cNvSpPr/>
          <p:nvPr/>
        </p:nvSpPr>
        <p:spPr>
          <a:xfrm>
            <a:off x="4343400" y="28195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Oval 19"/>
          <p:cNvSpPr/>
          <p:nvPr/>
        </p:nvSpPr>
        <p:spPr>
          <a:xfrm>
            <a:off x="4343400" y="342900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Oval 20"/>
          <p:cNvSpPr/>
          <p:nvPr/>
        </p:nvSpPr>
        <p:spPr>
          <a:xfrm>
            <a:off x="4343400" y="4038480"/>
            <a:ext cx="3808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Oval 21"/>
          <p:cNvSpPr/>
          <p:nvPr/>
        </p:nvSpPr>
        <p:spPr>
          <a:xfrm>
            <a:off x="4343400" y="46483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Oval 23"/>
          <p:cNvSpPr/>
          <p:nvPr/>
        </p:nvSpPr>
        <p:spPr>
          <a:xfrm>
            <a:off x="5029200" y="2209680"/>
            <a:ext cx="3808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Oval 24"/>
          <p:cNvSpPr/>
          <p:nvPr/>
        </p:nvSpPr>
        <p:spPr>
          <a:xfrm>
            <a:off x="5029200" y="28195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Oval 25"/>
          <p:cNvSpPr/>
          <p:nvPr/>
        </p:nvSpPr>
        <p:spPr>
          <a:xfrm>
            <a:off x="5029200" y="342900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Oval 26"/>
          <p:cNvSpPr/>
          <p:nvPr/>
        </p:nvSpPr>
        <p:spPr>
          <a:xfrm>
            <a:off x="5029200" y="4038480"/>
            <a:ext cx="380880" cy="381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Oval 27"/>
          <p:cNvSpPr/>
          <p:nvPr/>
        </p:nvSpPr>
        <p:spPr>
          <a:xfrm>
            <a:off x="5029200" y="46483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Oval 29"/>
          <p:cNvSpPr/>
          <p:nvPr/>
        </p:nvSpPr>
        <p:spPr>
          <a:xfrm>
            <a:off x="5715000" y="2209680"/>
            <a:ext cx="3808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Oval 30"/>
          <p:cNvSpPr/>
          <p:nvPr/>
        </p:nvSpPr>
        <p:spPr>
          <a:xfrm>
            <a:off x="5715000" y="28195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Oval 31"/>
          <p:cNvSpPr/>
          <p:nvPr/>
        </p:nvSpPr>
        <p:spPr>
          <a:xfrm>
            <a:off x="5715000" y="342900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Oval 32"/>
          <p:cNvSpPr/>
          <p:nvPr/>
        </p:nvSpPr>
        <p:spPr>
          <a:xfrm>
            <a:off x="5715000" y="4038480"/>
            <a:ext cx="3808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Oval 33"/>
          <p:cNvSpPr/>
          <p:nvPr/>
        </p:nvSpPr>
        <p:spPr>
          <a:xfrm>
            <a:off x="5715000" y="464832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Text Box 34"/>
          <p:cNvSpPr/>
          <p:nvPr/>
        </p:nvSpPr>
        <p:spPr>
          <a:xfrm>
            <a:off x="4314240" y="5178240"/>
            <a:ext cx="4046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5BB2-5ADF-4613-82D5-E1DF921D826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Visual Count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0" name="Oval 3"/>
          <p:cNvSpPr/>
          <p:nvPr/>
        </p:nvSpPr>
        <p:spPr>
          <a:xfrm>
            <a:off x="2971800" y="2209680"/>
            <a:ext cx="3808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Oval 4"/>
          <p:cNvSpPr/>
          <p:nvPr/>
        </p:nvSpPr>
        <p:spPr>
          <a:xfrm>
            <a:off x="2971800" y="281952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Oval 5"/>
          <p:cNvSpPr/>
          <p:nvPr/>
        </p:nvSpPr>
        <p:spPr>
          <a:xfrm>
            <a:off x="2971800" y="342900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2971800" y="4038480"/>
            <a:ext cx="380880" cy="381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Oval 7"/>
          <p:cNvSpPr/>
          <p:nvPr/>
        </p:nvSpPr>
        <p:spPr>
          <a:xfrm>
            <a:off x="2971800" y="464832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Oval 8"/>
          <p:cNvSpPr/>
          <p:nvPr/>
        </p:nvSpPr>
        <p:spPr>
          <a:xfrm>
            <a:off x="3657600" y="2209680"/>
            <a:ext cx="380880" cy="381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Oval 9"/>
          <p:cNvSpPr/>
          <p:nvPr/>
        </p:nvSpPr>
        <p:spPr>
          <a:xfrm>
            <a:off x="3657600" y="28195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Oval 10"/>
          <p:cNvSpPr/>
          <p:nvPr/>
        </p:nvSpPr>
        <p:spPr>
          <a:xfrm>
            <a:off x="3657600" y="342900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Oval 11"/>
          <p:cNvSpPr/>
          <p:nvPr/>
        </p:nvSpPr>
        <p:spPr>
          <a:xfrm>
            <a:off x="3657600" y="4038480"/>
            <a:ext cx="380880" cy="381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Oval 12"/>
          <p:cNvSpPr/>
          <p:nvPr/>
        </p:nvSpPr>
        <p:spPr>
          <a:xfrm>
            <a:off x="3657600" y="464832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Oval 13"/>
          <p:cNvSpPr/>
          <p:nvPr/>
        </p:nvSpPr>
        <p:spPr>
          <a:xfrm>
            <a:off x="4343400" y="2209680"/>
            <a:ext cx="380880" cy="381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Oval 14"/>
          <p:cNvSpPr/>
          <p:nvPr/>
        </p:nvSpPr>
        <p:spPr>
          <a:xfrm>
            <a:off x="4343400" y="281952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Oval 15"/>
          <p:cNvSpPr/>
          <p:nvPr/>
        </p:nvSpPr>
        <p:spPr>
          <a:xfrm>
            <a:off x="4343400" y="342900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Oval 16"/>
          <p:cNvSpPr/>
          <p:nvPr/>
        </p:nvSpPr>
        <p:spPr>
          <a:xfrm>
            <a:off x="4343400" y="4038480"/>
            <a:ext cx="380880" cy="381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Oval 17"/>
          <p:cNvSpPr/>
          <p:nvPr/>
        </p:nvSpPr>
        <p:spPr>
          <a:xfrm>
            <a:off x="4343400" y="464832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Oval 18"/>
          <p:cNvSpPr/>
          <p:nvPr/>
        </p:nvSpPr>
        <p:spPr>
          <a:xfrm>
            <a:off x="5029200" y="2209680"/>
            <a:ext cx="380880" cy="381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Oval 19"/>
          <p:cNvSpPr/>
          <p:nvPr/>
        </p:nvSpPr>
        <p:spPr>
          <a:xfrm>
            <a:off x="5029200" y="281952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Oval 20"/>
          <p:cNvSpPr/>
          <p:nvPr/>
        </p:nvSpPr>
        <p:spPr>
          <a:xfrm>
            <a:off x="5029200" y="342900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Oval 21"/>
          <p:cNvSpPr/>
          <p:nvPr/>
        </p:nvSpPr>
        <p:spPr>
          <a:xfrm>
            <a:off x="5029200" y="4038480"/>
            <a:ext cx="3808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Oval 22"/>
          <p:cNvSpPr/>
          <p:nvPr/>
        </p:nvSpPr>
        <p:spPr>
          <a:xfrm>
            <a:off x="5029200" y="464832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Oval 23"/>
          <p:cNvSpPr/>
          <p:nvPr/>
        </p:nvSpPr>
        <p:spPr>
          <a:xfrm>
            <a:off x="5715000" y="2209680"/>
            <a:ext cx="380880" cy="381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Oval 24"/>
          <p:cNvSpPr/>
          <p:nvPr/>
        </p:nvSpPr>
        <p:spPr>
          <a:xfrm>
            <a:off x="5715000" y="281952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Oval 25"/>
          <p:cNvSpPr/>
          <p:nvPr/>
        </p:nvSpPr>
        <p:spPr>
          <a:xfrm>
            <a:off x="5715000" y="342900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Oval 26"/>
          <p:cNvSpPr/>
          <p:nvPr/>
        </p:nvSpPr>
        <p:spPr>
          <a:xfrm>
            <a:off x="5715000" y="4038480"/>
            <a:ext cx="380880" cy="381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Oval 27"/>
          <p:cNvSpPr/>
          <p:nvPr/>
        </p:nvSpPr>
        <p:spPr>
          <a:xfrm>
            <a:off x="5715000" y="46483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Text Box 28"/>
          <p:cNvSpPr/>
          <p:nvPr/>
        </p:nvSpPr>
        <p:spPr>
          <a:xfrm>
            <a:off x="3848400" y="5178240"/>
            <a:ext cx="13388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*n -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50CB-4805-4DF0-915B-EE648692969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Visual Count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649" name="Group 29"/>
          <p:cNvGrpSpPr/>
          <p:nvPr/>
        </p:nvGrpSpPr>
        <p:grpSpPr>
          <a:xfrm>
            <a:off x="2971800" y="2209680"/>
            <a:ext cx="3124080" cy="2819520"/>
            <a:chOff x="2971800" y="2209680"/>
            <a:chExt cx="3124080" cy="2819520"/>
          </a:xfrm>
        </p:grpSpPr>
        <p:sp>
          <p:nvSpPr>
            <p:cNvPr id="650" name="Oval 3"/>
            <p:cNvSpPr/>
            <p:nvPr/>
          </p:nvSpPr>
          <p:spPr>
            <a:xfrm>
              <a:off x="2971800" y="22096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Oval 4"/>
            <p:cNvSpPr/>
            <p:nvPr/>
          </p:nvSpPr>
          <p:spPr>
            <a:xfrm>
              <a:off x="2971800" y="28195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2" name="Oval 5"/>
            <p:cNvSpPr/>
            <p:nvPr/>
          </p:nvSpPr>
          <p:spPr>
            <a:xfrm>
              <a:off x="2971800" y="34290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3" name="Oval 6"/>
            <p:cNvSpPr/>
            <p:nvPr/>
          </p:nvSpPr>
          <p:spPr>
            <a:xfrm>
              <a:off x="2971800" y="4038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4" name="Oval 7"/>
            <p:cNvSpPr/>
            <p:nvPr/>
          </p:nvSpPr>
          <p:spPr>
            <a:xfrm>
              <a:off x="2971800" y="46483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5" name="Oval 8"/>
            <p:cNvSpPr/>
            <p:nvPr/>
          </p:nvSpPr>
          <p:spPr>
            <a:xfrm>
              <a:off x="3657600" y="2209680"/>
              <a:ext cx="380880" cy="3812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6" name="Oval 9"/>
            <p:cNvSpPr/>
            <p:nvPr/>
          </p:nvSpPr>
          <p:spPr>
            <a:xfrm>
              <a:off x="3657600" y="28195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3657600" y="34290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3657600" y="4038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3657600" y="46483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4343400" y="2209680"/>
              <a:ext cx="380880" cy="3812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4343400" y="2819520"/>
              <a:ext cx="380880" cy="3808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4343400" y="34290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4343400" y="4038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4343400" y="46483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5029200" y="2209680"/>
              <a:ext cx="380880" cy="3812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5029200" y="2819520"/>
              <a:ext cx="380880" cy="3808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5029200" y="3429000"/>
              <a:ext cx="380880" cy="3808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5029200" y="4038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5029200" y="46483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5715000" y="2209680"/>
              <a:ext cx="380880" cy="3812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5715000" y="2819520"/>
              <a:ext cx="380880" cy="3808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5715000" y="3429000"/>
              <a:ext cx="380880" cy="3808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5715000" y="4038480"/>
              <a:ext cx="380880" cy="3812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5715000" y="46483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75" name="Text Box 28"/>
          <p:cNvSpPr/>
          <p:nvPr/>
        </p:nvSpPr>
        <p:spPr>
          <a:xfrm>
            <a:off x="2385000" y="5178240"/>
            <a:ext cx="4277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n*n - n)/2 + n = n(n+1)/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F4E0-6441-4BC8-BF14-2F7747A58FD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inary Searc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whenever the data are </a:t>
            </a:r>
            <a:r>
              <a:rPr b="0" lang="en-US" sz="2400" spc="-1" strike="noStrike">
                <a:solidFill>
                  <a:srgbClr val="fc0128"/>
                </a:solidFill>
                <a:latin typeface="Verdana"/>
              </a:rPr>
              <a:t>totally ordere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- e.g., the integers. All elements are compar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s sorting in advance, and storing in an arr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of the simplest to implement, often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st enough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tricky to handle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undary cases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a classic </a:t>
            </a:r>
            <a:r>
              <a:rPr b="0" lang="en-US" sz="2400" spc="-1" strike="noStrike">
                <a:solidFill>
                  <a:srgbClr val="fc0128"/>
                </a:solidFill>
                <a:latin typeface="Verdana"/>
              </a:rPr>
              <a:t>divide-and-conque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orith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EEA3-6747-461C-855B-14F88E871F9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dea of Binary Searc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osely related to the natural algorithm we use to look up a word in a dictionar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n to the mid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arget comes before all words on the page, search in left half of bo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wise, search in right half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85B5-0AC5-40AE-AE36-E4A4D6509A7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Interface for Binary Search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 search(int [] a, int first, int size, int targ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 [] a: array to be searched o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arch over a[first,first+1,...,first+size-1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condi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ray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orted in increasing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&gt;=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5BC5-14A2-4678-987C-1022393EEFC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 search (int [] a, int start, int size, int target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(size &lt;= 0) return -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se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 middle = start + size/2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(a[middle] == target) return middl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se if (target &lt; a[middle]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search(a, start, size/2, target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search(a, middle+1, size/2, target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E8E3-4660-450B-873F-EA525D6FABA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752480" y="2437920"/>
            <a:ext cx="56390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re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the error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se size is odd. A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 sizes correc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se size is even. A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 sizes correc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0A65-9E19-42E8-B6A3-156A1D1863A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5562720" y="4800600"/>
            <a:ext cx="1523880" cy="685800"/>
          </a:xfrm>
          <a:prstGeom prst="rect">
            <a:avLst/>
          </a:prstGeom>
          <a:solidFill>
            <a:srgbClr val="ffff00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 search (int [] a, int first, int size, int target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(size &lt;= 0) return -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se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 middle = first + size/2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(a[middle] == target) return middl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se if (target &lt; a[middle]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search(a, first, size/2, target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search(a, middle+1, </a:t>
            </a:r>
            <a:r>
              <a:rPr b="0" lang="en-US" sz="2800" spc="-1" strike="noStrike">
                <a:solidFill>
                  <a:srgbClr val="fc0128"/>
                </a:solidFill>
                <a:latin typeface="Comic Sans MS"/>
              </a:rPr>
              <a:t>(size-1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2, target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F8B9-7AC1-41CC-A8EF-FBE5B7D0271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Outlin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implest method: serial sear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nary sear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-address hash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ined hash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12FC-1363-47DB-849A-3494C536612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oundary Cas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nary search is sometimes tricky to get right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ommon source of bug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st cases are not always helpful for checking correctness of cod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many test cases would our first implementation solv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1E3E-C080-4E59-A1F8-0AB79E572D7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inary Search with Other Data Structur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binary search be implemented using linked lists rather than array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 there any other data structures that could be used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84F9-1136-45A3-8078-61024C76523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nalysis of Binary Searc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ursively dividing up array in half represents data as a full binary tre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the simplest case -- array of size n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-1, complete binary tre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e away one and divide by 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Size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k-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- 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can only do that k times and k = Lg(n+1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us, worst case involves Θ(log n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85F5-BCC6-417D-BFF2-C1E3C0C3F35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verage Cas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omplete binary tree with k leaves has k-1 internal nod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, about half of the n data elements require Θ(log n) operations to fin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us, assuming uniform distribution on target elements, average cost is also Θ(log n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9840-3FA2-4B79-A316-4CC6530FCD8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inary Search is Limited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we have a large number of items that will be accessed in part of the program, where efficiency is crucial, binary search may be too slow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roving Binary Searc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22" name="TextBox 3"/>
          <p:cNvSpPr/>
          <p:nvPr/>
        </p:nvSpPr>
        <p:spPr>
          <a:xfrm>
            <a:off x="1497240" y="1676520"/>
            <a:ext cx="6631920" cy="39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y to guess more precisely where th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is located in the interv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ize  middle = first + size/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key – a[first]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ddle = ------------------------------ * s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a[first+size-1] – a[first]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Slide Number Placeholder 4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93FB-D52C-4611-9503-7EBED80169B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Footer Placeholder 5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nterpolation Searc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modifies method is called interpolation search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s fewer than log(log(N)) comparisons in the average ca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t uses Θ(N) in the worst cas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 analysis, see Perl, Ital, Avni 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polation Search – A Log Log 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arch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CACM 21 (197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ges 550 – 55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s log (log (N)) better that log (N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976C-DE1D-4D02-8E07-8FDF6C32A4B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omparing Log N to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Log(Log N)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se N = 2^1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N = 1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(Log N) = Log (100) = 6.6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se N = 2^(2^10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N = 2^1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(Log N) = Log 2^100 = 1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ACE5-5E6E-4FB2-8C77-E7FF7245B19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omparing Log(N) to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 Log(Log N)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, by taking limits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m Log(Log(n)) / Log(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n-&gt;∞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s of the form inf. / inf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ply L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pital and take derivativ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m  1/(Log N) * 1/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n-&gt;∞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--------------------  =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/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16E3-75C1-4E92-9C37-3D004AE6E22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30CF-D72A-4B4E-A155-5B8BC05D8E2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tunately, we can often do bett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hing is a technique that where the access time can be O(1) rather than O(log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39AB-456B-4F36-A4EC-CC6DB2C52F9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earch Algorithm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ever large amounts of data need to be accessed quickly, search algorithms are crucially involv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056C-1A24-4257-A768-0D9715B00A6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Open Address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asic techniqu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ems are stored in an array of size 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referr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osition in the array is computed using a hash function of the item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ke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adding an item, if the preferred position is occupied, the next open position in the array is used instea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1F2F-64CC-4B7B-8B6E-48A84A28F91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Open Address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Main</a:t>
            </a:r>
            <a:r>
              <a:rPr b="0" lang="ja-JP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’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s presentation for Chapter 1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CFA0-7AA7-45E7-AB69-4E46CF5413C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 Basic Hash Tabl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keep arrays for the keys and data, and a bit indicating whether a given position has been occupi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vate class Table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vate int numItem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vate Object[] key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vate Object[] dat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vate boolean[] hasBeenUse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C860-EDF3-4900-902B-079D9BD5DE0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he Hash Func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can use the built in hashCode() method that Java provi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vate int hash (Object key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Math.abs(key.hashCode()) % data.length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9D3D-2DEB-47D2-8890-3AF8E30263B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alculating the Index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/ If found return value is index of ke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vate int findIndex(Object key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 count=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 i=hash(key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le ((count &lt; data.length) &amp;&amp; (hasBeenUsed[i])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(key.equals(keys[i])) return i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= nextIndex(i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nt++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-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B414-F2C7-4B14-A184-40925621E55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nserting an Ite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blic Object put (Object key, Object element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 index = findIndex(key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(index != -1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 answer = data[index]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a[index] = element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answer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se if (numItems &lt; data.length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AEFC-81DD-468E-BBFE-A24B26F45A2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nserting an Ite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blic Object put (Object key, Object element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se if (numItems &lt; data.length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ex = hash(key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le (keys[index] != nul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ex = nextIndex(index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s[index] = key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a[index] = element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BeenUsed[index] = tru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Items++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null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se throw new IllegalStateException(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 full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DE47-0B95-49FE-81AD-0235C46FA9C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Two Hashes are Better than One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isions can result in long stretches of positions with keys not in their 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ferred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o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is called </a:t>
            </a:r>
            <a:r>
              <a:rPr b="0" i="1" lang="en-US" sz="3200" spc="-1" strike="noStrike">
                <a:solidFill>
                  <a:srgbClr val="fc0128"/>
                </a:solidFill>
                <a:latin typeface="Verdana"/>
              </a:rPr>
              <a:t>cluste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address this problem, when a collision results we jump a 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number of positions, using a second hash fun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2DC9-3B23-4608-A6BF-A80230368C5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ouble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the first position using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h1(ke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r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a collision, step through the array in steps of siz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h2(key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= (i + hash2(key)) % data.l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void cycles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h2(key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the length of the array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ust be relatively prim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no common factor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42BF-B4A4-428A-8E55-1CEE62F2EEC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ouble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nuth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technique to avoid cycl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oose the length of the array so that both data.length and data.length-2 are pr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h1(key)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h.abs(key.hashCode()) % leng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h2(key) 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 + (Math.abs(key.hashCode()) % (length-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5EFB-308F-404E-9AAA-7D46CDB1D23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earch Algorithm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e at the heart of many computer technologies. To name a few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retrieval app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infrastructure (file systems, domain name servers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ing searching for patt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A258-B2FD-4526-BBFE-AB0C6F044AD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ssues with O-A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array cell holds only one el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isions and clustering can degrade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ce the array is full, no more elements can be added, unless w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a new array with the right size and hash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hash the original el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B311-6864-4B50-BB42-E763DF128ED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hained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array cell can hold more than one element of the hash 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h the key of each element to obtain the array ind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a collision happens, the element is still placed at the original hash ind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is this handled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5C8C-E973-4945-AA02-1B39A45EDBE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nswer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array location must be implemented with a data structure that can hold a group of elements with the same hash ind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common approa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array location stores the head of a linked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in the list all have the same has inde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2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9149-EEDE-4A9A-8BC0-86E1742EF37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hained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1295280" y="1523880"/>
            <a:ext cx="914400" cy="76212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95640" y="1676160"/>
            <a:ext cx="72468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Rectangle 5"/>
          <p:cNvSpPr/>
          <p:nvPr/>
        </p:nvSpPr>
        <p:spPr>
          <a:xfrm>
            <a:off x="4038480" y="1523880"/>
            <a:ext cx="914400" cy="76212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2209680" y="1523880"/>
            <a:ext cx="914400" cy="76212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Rectangle 7"/>
          <p:cNvSpPr/>
          <p:nvPr/>
        </p:nvSpPr>
        <p:spPr>
          <a:xfrm>
            <a:off x="3124080" y="1523880"/>
            <a:ext cx="914400" cy="76212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5047920" y="1700280"/>
            <a:ext cx="46548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Text Box 9"/>
          <p:cNvSpPr/>
          <p:nvPr/>
        </p:nvSpPr>
        <p:spPr>
          <a:xfrm>
            <a:off x="1559520" y="2286000"/>
            <a:ext cx="46548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Text Box 10"/>
          <p:cNvSpPr/>
          <p:nvPr/>
        </p:nvSpPr>
        <p:spPr>
          <a:xfrm>
            <a:off x="2397600" y="2286000"/>
            <a:ext cx="46548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Text Box 11"/>
          <p:cNvSpPr/>
          <p:nvPr/>
        </p:nvSpPr>
        <p:spPr>
          <a:xfrm>
            <a:off x="3388320" y="2286000"/>
            <a:ext cx="46548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2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Text Box 12"/>
          <p:cNvSpPr/>
          <p:nvPr/>
        </p:nvSpPr>
        <p:spPr>
          <a:xfrm>
            <a:off x="4302720" y="2286000"/>
            <a:ext cx="46548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06" name="Group 21"/>
          <p:cNvGrpSpPr/>
          <p:nvPr/>
        </p:nvGrpSpPr>
        <p:grpSpPr>
          <a:xfrm>
            <a:off x="762120" y="2819520"/>
            <a:ext cx="1218960" cy="1371600"/>
            <a:chOff x="762120" y="2819520"/>
            <a:chExt cx="1218960" cy="1371600"/>
          </a:xfrm>
        </p:grpSpPr>
        <p:sp>
          <p:nvSpPr>
            <p:cNvPr id="807" name="Text Box 13"/>
            <p:cNvSpPr/>
            <p:nvPr/>
          </p:nvSpPr>
          <p:spPr>
            <a:xfrm>
              <a:off x="783720" y="2819520"/>
              <a:ext cx="107064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8" name="Text Box 14"/>
            <p:cNvSpPr/>
            <p:nvPr/>
          </p:nvSpPr>
          <p:spPr>
            <a:xfrm>
              <a:off x="780480" y="3200400"/>
              <a:ext cx="55368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9" name="Rectangle 15"/>
            <p:cNvSpPr/>
            <p:nvPr/>
          </p:nvSpPr>
          <p:spPr>
            <a:xfrm>
              <a:off x="762120" y="2819520"/>
              <a:ext cx="121896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0" name="Rectangle 16"/>
            <p:cNvSpPr/>
            <p:nvPr/>
          </p:nvSpPr>
          <p:spPr>
            <a:xfrm>
              <a:off x="762120" y="3200400"/>
              <a:ext cx="121896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1" name="Rectangle 17"/>
            <p:cNvSpPr/>
            <p:nvPr/>
          </p:nvSpPr>
          <p:spPr>
            <a:xfrm>
              <a:off x="762120" y="3581640"/>
              <a:ext cx="121896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19"/>
            <p:cNvSpPr/>
            <p:nvPr/>
          </p:nvSpPr>
          <p:spPr>
            <a:xfrm>
              <a:off x="773280" y="3581280"/>
              <a:ext cx="56772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Line 20"/>
            <p:cNvSpPr/>
            <p:nvPr/>
          </p:nvSpPr>
          <p:spPr>
            <a:xfrm>
              <a:off x="1447920" y="38102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4" name="Line 22"/>
          <p:cNvSpPr/>
          <p:nvPr/>
        </p:nvSpPr>
        <p:spPr>
          <a:xfrm flipH="1">
            <a:off x="1371600" y="1905120"/>
            <a:ext cx="380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Line 23"/>
          <p:cNvSpPr/>
          <p:nvPr/>
        </p:nvSpPr>
        <p:spPr>
          <a:xfrm>
            <a:off x="3581280" y="1905120"/>
            <a:ext cx="533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6" name="Group 24"/>
          <p:cNvGrpSpPr/>
          <p:nvPr/>
        </p:nvGrpSpPr>
        <p:grpSpPr>
          <a:xfrm>
            <a:off x="3505320" y="2819520"/>
            <a:ext cx="1218960" cy="1371600"/>
            <a:chOff x="3505320" y="2819520"/>
            <a:chExt cx="1218960" cy="1371600"/>
          </a:xfrm>
        </p:grpSpPr>
        <p:sp>
          <p:nvSpPr>
            <p:cNvPr id="817" name="Text Box 25"/>
            <p:cNvSpPr/>
            <p:nvPr/>
          </p:nvSpPr>
          <p:spPr>
            <a:xfrm>
              <a:off x="3526920" y="2819520"/>
              <a:ext cx="107064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26"/>
            <p:cNvSpPr/>
            <p:nvPr/>
          </p:nvSpPr>
          <p:spPr>
            <a:xfrm>
              <a:off x="3523680" y="3200400"/>
              <a:ext cx="55368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Rectangle 27"/>
            <p:cNvSpPr/>
            <p:nvPr/>
          </p:nvSpPr>
          <p:spPr>
            <a:xfrm>
              <a:off x="3505320" y="2819520"/>
              <a:ext cx="121896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28"/>
            <p:cNvSpPr/>
            <p:nvPr/>
          </p:nvSpPr>
          <p:spPr>
            <a:xfrm>
              <a:off x="3505320" y="3200400"/>
              <a:ext cx="121896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Rectangle 29"/>
            <p:cNvSpPr/>
            <p:nvPr/>
          </p:nvSpPr>
          <p:spPr>
            <a:xfrm>
              <a:off x="3505320" y="3581640"/>
              <a:ext cx="121896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2" name="Text Box 30"/>
            <p:cNvSpPr/>
            <p:nvPr/>
          </p:nvSpPr>
          <p:spPr>
            <a:xfrm>
              <a:off x="3516480" y="3581280"/>
              <a:ext cx="56772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3" name="Line 31"/>
            <p:cNvSpPr/>
            <p:nvPr/>
          </p:nvSpPr>
          <p:spPr>
            <a:xfrm>
              <a:off x="4191120" y="38102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24" name="Group 32"/>
          <p:cNvGrpSpPr/>
          <p:nvPr/>
        </p:nvGrpSpPr>
        <p:grpSpPr>
          <a:xfrm>
            <a:off x="3505320" y="4191120"/>
            <a:ext cx="1218960" cy="1371600"/>
            <a:chOff x="3505320" y="4191120"/>
            <a:chExt cx="1218960" cy="1371600"/>
          </a:xfrm>
        </p:grpSpPr>
        <p:sp>
          <p:nvSpPr>
            <p:cNvPr id="825" name="Text Box 33"/>
            <p:cNvSpPr/>
            <p:nvPr/>
          </p:nvSpPr>
          <p:spPr>
            <a:xfrm>
              <a:off x="3526920" y="4191120"/>
              <a:ext cx="107064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3523680" y="4572000"/>
              <a:ext cx="55368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Rectangle 35"/>
            <p:cNvSpPr/>
            <p:nvPr/>
          </p:nvSpPr>
          <p:spPr>
            <a:xfrm>
              <a:off x="3505320" y="4191120"/>
              <a:ext cx="121896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Rectangle 36"/>
            <p:cNvSpPr/>
            <p:nvPr/>
          </p:nvSpPr>
          <p:spPr>
            <a:xfrm>
              <a:off x="3505320" y="4572000"/>
              <a:ext cx="121896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Rectangle 37"/>
            <p:cNvSpPr/>
            <p:nvPr/>
          </p:nvSpPr>
          <p:spPr>
            <a:xfrm>
              <a:off x="3505320" y="4953240"/>
              <a:ext cx="121896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0" name="Text Box 38"/>
            <p:cNvSpPr/>
            <p:nvPr/>
          </p:nvSpPr>
          <p:spPr>
            <a:xfrm>
              <a:off x="3516480" y="4952880"/>
              <a:ext cx="56772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1" name="Line 39"/>
            <p:cNvSpPr/>
            <p:nvPr/>
          </p:nvSpPr>
          <p:spPr>
            <a:xfrm>
              <a:off x="4191120" y="51818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32" name="Group 40"/>
          <p:cNvGrpSpPr/>
          <p:nvPr/>
        </p:nvGrpSpPr>
        <p:grpSpPr>
          <a:xfrm>
            <a:off x="5181480" y="2819520"/>
            <a:ext cx="1218960" cy="1371600"/>
            <a:chOff x="5181480" y="2819520"/>
            <a:chExt cx="1218960" cy="1371600"/>
          </a:xfrm>
        </p:grpSpPr>
        <p:sp>
          <p:nvSpPr>
            <p:cNvPr id="833" name="Text Box 41"/>
            <p:cNvSpPr/>
            <p:nvPr/>
          </p:nvSpPr>
          <p:spPr>
            <a:xfrm>
              <a:off x="5203080" y="2819520"/>
              <a:ext cx="107064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4" name="Text Box 42"/>
            <p:cNvSpPr/>
            <p:nvPr/>
          </p:nvSpPr>
          <p:spPr>
            <a:xfrm>
              <a:off x="5199840" y="3200400"/>
              <a:ext cx="55368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5" name="Rectangle 43"/>
            <p:cNvSpPr/>
            <p:nvPr/>
          </p:nvSpPr>
          <p:spPr>
            <a:xfrm>
              <a:off x="5181480" y="2819520"/>
              <a:ext cx="121896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6" name="Rectangle 44"/>
            <p:cNvSpPr/>
            <p:nvPr/>
          </p:nvSpPr>
          <p:spPr>
            <a:xfrm>
              <a:off x="5181480" y="3200400"/>
              <a:ext cx="121896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7" name="Rectangle 45"/>
            <p:cNvSpPr/>
            <p:nvPr/>
          </p:nvSpPr>
          <p:spPr>
            <a:xfrm>
              <a:off x="5181480" y="3581640"/>
              <a:ext cx="121896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8" name="Text Box 46"/>
            <p:cNvSpPr/>
            <p:nvPr/>
          </p:nvSpPr>
          <p:spPr>
            <a:xfrm>
              <a:off x="5192640" y="3581280"/>
              <a:ext cx="56772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9" name="Line 47"/>
            <p:cNvSpPr/>
            <p:nvPr/>
          </p:nvSpPr>
          <p:spPr>
            <a:xfrm>
              <a:off x="5867280" y="38102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0" name="Line 48"/>
          <p:cNvSpPr/>
          <p:nvPr/>
        </p:nvSpPr>
        <p:spPr>
          <a:xfrm>
            <a:off x="4495680" y="19051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Text Box 49"/>
          <p:cNvSpPr/>
          <p:nvPr/>
        </p:nvSpPr>
        <p:spPr>
          <a:xfrm>
            <a:off x="5217480" y="4419360"/>
            <a:ext cx="367488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c0128"/>
                </a:solidFill>
                <a:latin typeface="Verdana"/>
              </a:rPr>
              <a:t>Any number of elements can be</a:t>
            </a:r>
            <a:br>
              <a:rPr sz="1800"/>
            </a:br>
            <a:r>
              <a:rPr b="0" i="1" lang="en-US" sz="1800" spc="-1" strike="noStrike">
                <a:solidFill>
                  <a:srgbClr val="fc0128"/>
                </a:solidFill>
                <a:latin typeface="Verdana"/>
              </a:rPr>
              <a:t>added to the table without a need </a:t>
            </a:r>
            <a:br>
              <a:rPr sz="1800"/>
            </a:br>
            <a:r>
              <a:rPr b="0" i="1" lang="en-US" sz="1800" spc="-1" strike="noStrike">
                <a:solidFill>
                  <a:srgbClr val="fc0128"/>
                </a:solidFill>
                <a:latin typeface="Verdana"/>
              </a:rPr>
              <a:t>to rehas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Java HashMap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43" name="Slide Number Placeholder 2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0615-E603-406A-8A12-2C8A56094A0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5" name="Picture 4" descr=""/>
          <p:cNvPicPr/>
          <p:nvPr/>
        </p:nvPicPr>
        <p:blipFill>
          <a:blip r:embed="rId1"/>
          <a:stretch/>
        </p:blipFill>
        <p:spPr>
          <a:xfrm>
            <a:off x="1397160" y="1244520"/>
            <a:ext cx="634968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2B95-7D9B-43AF-8E14-D6B33688BAA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Search Algorithms: Two Broad Categorie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arching a static datab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ssing indexed Web p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ing a file on dis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ing a dynamically changing set of hypothe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 chess (search for a mov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ech recognition (search for text given speech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l be concerned with the fir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3C2F-96BC-46AD-84BB-84EC33F2D78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he Simplest Search:  Serial Lookup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ems are stored in an array or lis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search for an item x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at the beginning of the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e the current item to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unequal, proceed to next i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33F0-9A22-4225-91BA-43BBDBABBED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seudocode for Serial Search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57913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/ Find x in an array a of length 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lean found = fals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le ((i &lt; n) &amp;&amp; !found) {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(a[i] == x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nd = tru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se i++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(found) 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A4E1-79B9-4D9E-B65D-BA253AB03C9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nalysis for Serial Searc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st case: Requires one array access: Θ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st case: Requires n array accesses: Θ(n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erage case: To access an item, assuming position is random (uniform):(1+2+3+...+n)/n = n(n+1)/2n = (n+1)/2 = Θ(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14FA-EBFC-40DB-B57D-9B817DD2F92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 Useful Combinatorial Identity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2" name="Text Box 37"/>
          <p:cNvSpPr/>
          <p:nvPr/>
        </p:nvSpPr>
        <p:spPr>
          <a:xfrm>
            <a:off x="1905120" y="2855520"/>
            <a:ext cx="5719680" cy="22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+2+3+…+n = n(n+1)/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ebraic Proof in M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ual Coun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2:41:41Z</dcterms:created>
  <dc:creator>Michael Main and Walter Savitch</dc:creator>
  <dc:description>Presentation from Chapter 10.
Copyright 1997, by Addison Wesley Longman.</dc:description>
  <cp:keywords/>
  <dc:language>en-US</dc:language>
  <cp:lastModifiedBy>Michael McCarthy</cp:lastModifiedBy>
  <cp:lastPrinted>1999-06-02T03:11:26Z</cp:lastPrinted>
  <dcterms:modified xsi:type="dcterms:W3CDTF">2016-03-03T15:33:34Z</dcterms:modified>
  <cp:revision>79</cp:revision>
  <dc:subject>Complete Binary Trees</dc:subject>
  <dc:title>Data Structures and Other Objects Using C++</dc:title>
</cp:coreProperties>
</file>